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2CAC-4D59-4327-87A1-D37D7D54C8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BC9C-1660-4FBE-B83B-457E466680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452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002-AC6B-4F24-98C3-03BA2B32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A51-5A71-4999-AFC6-DCCAD167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F09-6846-4E2D-839E-D907573F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89E-8A54-401E-AE92-6F44EA32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43C-35CE-4AED-8B37-C43F2252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382-A4AF-48F3-B7B4-C588B40C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43D-7DDD-4BC8-960E-B1AFD98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873-6ABC-48A9-92B0-1F4DF20D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9E9-23DE-4306-8975-7F08B8E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454-2A03-47E9-9DE2-150B138D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9ED5-D348-4775-9C0A-D4FC302A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E34-F3D4-47CF-BF69-F8D4FF47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BD16-50E8-480A-981D-31FD8B7B1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allonie-en-ligne.net/wallonie-prospective/2003_ProspectiveChangement/Actes-2003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231920"/>
            <a:ext cx="883944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63080" y="457200"/>
            <a:ext cx="570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vieillesse n ’a plus d ’â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vieillissement n ’est pas contagi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109960"/>
            <a:ext cx="741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conditions épistémologiques essentiell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pas « naturaliser » l ’âge (pas de relation immuable entre l ’âge calendrier et le vieillissement individu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pas assimiler vieillissement individuel et vieillissement collectif (pas de relation évidente entre les structures démographiques et l ’aptitude à l ’innovation ou au dynamisme d ’une sociét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2880" y="443088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èg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avoriser une vision globale, historique et systémique des évolutions sociétales et resituer le vieillissement dans son contexte coll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22280" y="76320"/>
            <a:ext cx="475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veaux rôles pour nouveaux vi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69520" y="457200"/>
            <a:ext cx="585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a «seniorie», classe relais entre les techniques et le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6120" y="1457280"/>
            <a:ext cx="2054520" cy="6080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14280" y="1457280"/>
            <a:ext cx="2130480" cy="6080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4280" y="1457280"/>
            <a:ext cx="2130480" cy="357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16840" y="1488960"/>
            <a:ext cx="108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</a:rPr>
              <a:t>SOCIETE</a:t>
            </a:r>
            <a:r>
              <a:rPr b="1" lang="en-US" sz="1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Palatino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90040" y="1690560"/>
            <a:ext cx="1663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76680" y="231156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83800" y="2629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touris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82760" y="2982960"/>
            <a:ext cx="188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ctivités spor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78840" y="3262320"/>
            <a:ext cx="73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méd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71560" y="3578400"/>
            <a:ext cx="99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6640" y="3895560"/>
            <a:ext cx="104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assu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36240" y="4211640"/>
            <a:ext cx="1934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services sociaux 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36360" y="4427640"/>
            <a:ext cx="102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sanit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56120" y="1457280"/>
            <a:ext cx="2054520" cy="363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62000" y="1488960"/>
            <a:ext cx="78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</a:rPr>
              <a:t>SOCI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36920" y="1690560"/>
            <a:ext cx="163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"/>
              </a:rPr>
              <a:t>TECHNOLOG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49160" y="2603520"/>
            <a:ext cx="137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inform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18640" y="2919240"/>
            <a:ext cx="124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télém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31320" y="3236760"/>
            <a:ext cx="102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robo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77760" y="3552840"/>
            <a:ext cx="91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bio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00840" y="387036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</a:rPr>
              <a:t>génie géné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08160" y="2058840"/>
            <a:ext cx="2130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50000" y="2058840"/>
            <a:ext cx="2054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99600" y="1349280"/>
            <a:ext cx="131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</a:rPr>
              <a:t>RETRA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6000" y="1760400"/>
            <a:ext cx="1901520" cy="159732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26000" y="3357720"/>
            <a:ext cx="1901520" cy="17478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12000" y="190656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dema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38400" y="2158920"/>
            <a:ext cx="128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d'éducation,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8000" y="2362320"/>
            <a:ext cx="157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loisirs, de sécurité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27560" y="2565360"/>
            <a:ext cx="750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de santé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03560" y="2805120"/>
            <a:ext cx="13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d'assistance,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28360" y="3489480"/>
            <a:ext cx="43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off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5400" y="371808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de services d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47040" y="3882960"/>
            <a:ext cx="1448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aux familles, 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02840" y="4059360"/>
            <a:ext cx="145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alatino"/>
              </a:rPr>
              <a:t>collectivités loc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81680" y="4224240"/>
            <a:ext cx="1351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les, aux associa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33720" y="4402080"/>
            <a:ext cx="1613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alatino"/>
              </a:rPr>
              <a:t>tions, aux admini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55120" y="4554360"/>
            <a:ext cx="107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Palatino"/>
              </a:rPr>
              <a:t>trations, 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84480" y="4743360"/>
            <a:ext cx="145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entreprises, etc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198960" y="2301120"/>
            <a:ext cx="304200" cy="3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5" y="7070"/>
                </a:moveTo>
                <a:arcTo wR="10800" hR="10800" stAng="-1212217" swAng="2420336"/>
                <a:lnTo>
                  <a:pt x="10800" y="10800"/>
                </a:lnTo>
                <a:close/>
              </a:path>
              <a:path fill="none" w="21600" h="21600">
                <a:moveTo>
                  <a:pt x="20935" y="7070"/>
                </a:moveTo>
                <a:arcTo wR="10800" hR="10800" stAng="-1212217" swAng="24203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478320" y="2438280"/>
            <a:ext cx="241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98960" y="2603520"/>
            <a:ext cx="30420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2" y="7087"/>
                </a:moveTo>
                <a:arcTo wR="10800" hR="10800" stAng="-1206411" swAng="2408740"/>
                <a:lnTo>
                  <a:pt x="10800" y="10800"/>
                </a:lnTo>
                <a:close/>
              </a:path>
              <a:path fill="none" w="21600" h="21600">
                <a:moveTo>
                  <a:pt x="20942" y="7087"/>
                </a:moveTo>
                <a:arcTo wR="10800" hR="10800" stAng="-1206411" swAng="240874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478320" y="2743200"/>
            <a:ext cx="241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98960" y="2982600"/>
            <a:ext cx="304200" cy="30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6" y="7099"/>
                </a:moveTo>
                <a:arcTo wR="10800" hR="10800" stAng="-1202329" swAng="2404658"/>
                <a:lnTo>
                  <a:pt x="10800" y="10800"/>
                </a:lnTo>
                <a:close/>
              </a:path>
              <a:path fill="none" w="21600" h="21600">
                <a:moveTo>
                  <a:pt x="20946" y="7099"/>
                </a:moveTo>
                <a:arcTo wR="10800" hR="10800" stAng="-1202329" swAng="24046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77960" y="3122640"/>
            <a:ext cx="469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98960" y="3288240"/>
            <a:ext cx="304200" cy="3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5" y="7070"/>
                </a:moveTo>
                <a:arcTo wR="10800" hR="10800" stAng="-1212217" swAng="2420336"/>
                <a:lnTo>
                  <a:pt x="10800" y="10800"/>
                </a:lnTo>
                <a:close/>
              </a:path>
              <a:path fill="none" w="21600" h="21600">
                <a:moveTo>
                  <a:pt x="20935" y="7070"/>
                </a:moveTo>
                <a:arcTo wR="10800" hR="10800" stAng="-1212217" swAng="24203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78320" y="3427560"/>
            <a:ext cx="620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3591000"/>
            <a:ext cx="30420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6" y="7099"/>
                </a:moveTo>
                <a:arcTo wR="10800" hR="10800" stAng="-1202329" swAng="2408740"/>
                <a:lnTo>
                  <a:pt x="10800" y="10800"/>
                </a:lnTo>
                <a:close/>
              </a:path>
              <a:path fill="none" w="21600" h="21600">
                <a:moveTo>
                  <a:pt x="20946" y="7099"/>
                </a:moveTo>
                <a:arcTo wR="10800" hR="10800" stAng="-1202329" swAng="240874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477960" y="3730680"/>
            <a:ext cx="393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98960" y="3896280"/>
            <a:ext cx="304200" cy="3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5" y="7070"/>
                </a:moveTo>
                <a:arcTo wR="10800" hR="10800" stAng="-1212217" swAng="2420336"/>
                <a:lnTo>
                  <a:pt x="10800" y="10800"/>
                </a:lnTo>
                <a:close/>
              </a:path>
              <a:path fill="none" w="21600" h="21600">
                <a:moveTo>
                  <a:pt x="20935" y="7070"/>
                </a:moveTo>
                <a:arcTo wR="10800" hR="10800" stAng="-1212217" swAng="24203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478320" y="4035600"/>
            <a:ext cx="241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98960" y="4274640"/>
            <a:ext cx="304200" cy="30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6" y="7099"/>
                </a:moveTo>
                <a:arcTo wR="10800" hR="10800" stAng="-1202329" swAng="2404658"/>
                <a:lnTo>
                  <a:pt x="10800" y="10800"/>
                </a:lnTo>
                <a:close/>
              </a:path>
              <a:path fill="none" w="21600" h="21600">
                <a:moveTo>
                  <a:pt x="20946" y="7099"/>
                </a:moveTo>
                <a:arcTo wR="10800" hR="10800" stAng="-1202329" swAng="24046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478320" y="4414680"/>
            <a:ext cx="241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81720" y="2603520"/>
            <a:ext cx="304200" cy="30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2" y="7087"/>
                </a:moveTo>
                <a:arcTo wR="10800" hR="10800" stAng="-1206411" swAng="2408740"/>
                <a:lnTo>
                  <a:pt x="10800" y="10800"/>
                </a:lnTo>
                <a:close/>
              </a:path>
              <a:path fill="none" w="21600" h="21600">
                <a:moveTo>
                  <a:pt x="20942" y="7087"/>
                </a:moveTo>
                <a:arcTo wR="10800" hR="10800" stAng="-1206411" swAng="240874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760720" y="2743200"/>
            <a:ext cx="8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29440" y="2908800"/>
            <a:ext cx="304200" cy="3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5" y="7070"/>
                </a:moveTo>
                <a:arcTo wR="10800" hR="10800" stAng="-1212217" swAng="2420336"/>
                <a:lnTo>
                  <a:pt x="10800" y="10800"/>
                </a:lnTo>
                <a:close/>
              </a:path>
              <a:path fill="none" w="21600" h="21600">
                <a:moveTo>
                  <a:pt x="20935" y="7070"/>
                </a:moveTo>
                <a:arcTo wR="10800" hR="10800" stAng="-1212217" swAng="24203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608800" y="3046320"/>
            <a:ext cx="241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6320" y="3211200"/>
            <a:ext cx="304200" cy="30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46" y="7100"/>
                </a:moveTo>
                <a:arcTo wR="10800" hR="10800" stAng="-1202117" swAng="2400163"/>
                <a:lnTo>
                  <a:pt x="10800" y="10800"/>
                </a:lnTo>
                <a:close/>
              </a:path>
              <a:path fill="none" w="21600" h="21600">
                <a:moveTo>
                  <a:pt x="20946" y="7100"/>
                </a:moveTo>
                <a:arcTo wR="10800" hR="10800" stAng="-1202117" swAng="2400163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303520" y="3351240"/>
            <a:ext cx="546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53120" y="3516840"/>
            <a:ext cx="304200" cy="3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5" y="7070"/>
                </a:moveTo>
                <a:arcTo wR="10800" hR="10800" stAng="-1212217" swAng="2420336"/>
                <a:lnTo>
                  <a:pt x="10800" y="10800"/>
                </a:lnTo>
                <a:close/>
              </a:path>
              <a:path fill="none" w="21600" h="21600">
                <a:moveTo>
                  <a:pt x="20935" y="7070"/>
                </a:moveTo>
                <a:arcTo wR="10800" hR="10800" stAng="-1212217" swAng="24203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532480" y="365436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81720" y="3896280"/>
            <a:ext cx="304200" cy="3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935" y="7070"/>
                </a:moveTo>
                <a:arcTo wR="10800" hR="10800" stAng="-1212217" swAng="2420336"/>
                <a:lnTo>
                  <a:pt x="10800" y="10800"/>
                </a:lnTo>
                <a:close/>
              </a:path>
              <a:path fill="none" w="21600" h="21600">
                <a:moveTo>
                  <a:pt x="20935" y="7070"/>
                </a:moveTo>
                <a:arcTo wR="10800" hR="10800" stAng="-1212217" swAng="242033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760720" y="4035600"/>
            <a:ext cx="8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5486400"/>
            <a:ext cx="8397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 troisième âge participe au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nouvellement de la demande globa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t crée un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ffre nouvelle de servi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qui contribuera à sa réhabilitation sociale et à la revalorisation des activités soc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330640" y="2602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 une société de pluri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-134280" y="725400"/>
            <a:ext cx="9814320" cy="60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Times New Roman"/>
              </a:rPr>
              <a:t>Constat : la « société salariale » en perte de vi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 passage de la société industrielle à la société de services = augmentation de la production,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is diminution de l’emploi salari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 plein emploi = exception historique liée aux années d’après gu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es politiques de réduction du chômage (croissance économique, formation, baisse des coûts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alariaux, …) =  nécessaires mais insuffis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Times New Roman"/>
              </a:rPr>
              <a:t>Conséquenc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mplois salariés atypiq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ugmentation des contrats à temps partiels et à durée détermi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récarisation des carr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ccroissement du nombre des inactifs en début et en fin de carriè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iminution des salaires ré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Times New Roman"/>
              </a:rPr>
              <a:t>Remèdes </a:t>
            </a: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favoriser une pluriactivité généralisée vi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a réduction du temps de trav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a promotion de l’économie solid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Times New Roman"/>
              </a:rPr>
              <a:t>Objectifs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éencastrer l’économie dans un projet social collectif d’inté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imiter la progression du risque « fin de carrière 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3300"/>
                </a:solidFill>
                <a:latin typeface="Times New Roman"/>
              </a:rPr>
              <a:t>Condition 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éviter la pluriactivé précaire et « spontanée » qui menace les groupes fragilisés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(femmes, jeunes, travailleurs âgés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7360" y="198360"/>
            <a:ext cx="771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de la société multigénérationnel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t gestion des â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52640" y="1766880"/>
            <a:ext cx="3886920" cy="4722480"/>
            <a:chOff x="152640" y="1766880"/>
            <a:chExt cx="3886920" cy="4722480"/>
          </a:xfrm>
        </p:grpSpPr>
        <p:sp>
          <p:nvSpPr>
            <p:cNvPr id="359" name=""/>
            <p:cNvSpPr/>
            <p:nvPr/>
          </p:nvSpPr>
          <p:spPr>
            <a:xfrm>
              <a:off x="301320" y="4476600"/>
              <a:ext cx="247104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BLEME 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ultiplicité et diversité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s génér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ECTIF 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ssurer une cohabit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armonieu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2640" y="1766880"/>
              <a:ext cx="38869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La double dimensionalité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des générations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dans l’histoire e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dans la parentè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61" name=""/>
          <p:cNvGraphicFramePr/>
          <p:nvPr/>
        </p:nvGraphicFramePr>
        <p:xfrm>
          <a:off x="4110120" y="1455840"/>
          <a:ext cx="4957560" cy="50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0120" y="1455840"/>
                    <a:ext cx="495756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017440" y="20304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un New Deal intergénérat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3040" y="914400"/>
            <a:ext cx="88394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fr-FR" sz="2000" spc="-1" strike="noStrike">
                <a:solidFill>
                  <a:srgbClr val="ff3300"/>
                </a:solidFill>
                <a:latin typeface="Times New Roman"/>
              </a:rPr>
              <a:t>Constats : </a:t>
            </a:r>
            <a:r>
              <a:rPr b="1" i="1" lang="fr-FR" sz="1800" spc="-1" strike="noStrike">
                <a:solidFill>
                  <a:srgbClr val="ff3300"/>
                </a:solidFill>
                <a:latin typeface="Times New Roman"/>
              </a:rPr>
              <a:t>décomposition de l’ancien « contrat social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crise des retraites par répar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disparition progressive du « contrat implicite » liant les générations de travailleurs par l’ancienneté dans l’entrep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remise en cause de la dette de reconnaissance liant les générations dans la fam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affaiblissement des mécanismes de transmission dans la famille, à l’école, dans l’entrep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montée de l’individualisme et de « l’adultocentrisme », cause de l’agisme à la fois anti-jeune et anti-vie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dangers du « génératiocentrisme » développé autour du concept d’équité intergénéra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ff3300"/>
                </a:solidFill>
                <a:latin typeface="Times New Roman"/>
              </a:rPr>
              <a:t>les inégalités intragénérationnelles augmentent en même temps que les inégalités intergénération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i="1" lang="fr-FR" sz="2000" spc="-1" strike="noStrike">
                <a:solidFill>
                  <a:srgbClr val="3333cc"/>
                </a:solidFill>
                <a:latin typeface="Times New Roman"/>
              </a:rPr>
              <a:t>Remè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réinventer une nouvelle </a:t>
            </a: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pensée générationnelle</a:t>
            </a: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 insérée dans une perspective historique et en accord avec la pluralité des temps (de la vie, de la société mondialisée, des identités communautaires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réaffirmer l’</a:t>
            </a: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interdépendance des générations</a:t>
            </a: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 entre-elles, mais aussi des générations avec les classes sociales, les âges de la vie et les se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repenser tous les </a:t>
            </a:r>
            <a:r>
              <a:rPr b="1" lang="fr-FR" sz="1800" spc="-1" strike="noStrike">
                <a:solidFill>
                  <a:srgbClr val="3333cc"/>
                </a:solidFill>
                <a:latin typeface="Times New Roman"/>
              </a:rPr>
              <a:t>mécanismes de répartition et de redistribution</a:t>
            </a:r>
            <a:r>
              <a:rPr b="0" lang="fr-FR" sz="1600" spc="-1" strike="noStrike">
                <a:solidFill>
                  <a:srgbClr val="3333cc"/>
                </a:solidFill>
                <a:latin typeface="Times New Roman"/>
              </a:rPr>
              <a:t> des ressources coll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715840" y="14616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choc des générati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-629640" y="457200"/>
            <a:ext cx="10341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emarque : « génération » = concept flou et ambigu avec des risques d’interprétations contradicto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Exemple :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« La génération sacrifiée » (C. Saint Etienne) = celle du baby boom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« La génération inoxydable » (M. Cicur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1009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9640" y="1739880"/>
            <a:ext cx="8216280" cy="39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3300"/>
                </a:solidFill>
                <a:latin typeface="Times New Roman"/>
              </a:rPr>
              <a:t>Typologie de Xavier Gaullier (Les temps de la vie, 19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Générations des trentes glorieuses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= celles actives pendant la période d’après-guerre et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i sont actuellement à la retraite= âge d’or des retraites ou « welfare generation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Générations du baby boom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= celles nées pendant la période d’après-guerre et de la cinquantaine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ctuelle ou de la décennie de la fin de carrière et qui arriveront à la retraite à partir de 2005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= génération sacrifiée (stagnation des salaires, blocage des promotions, cessation d’activité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nticipée) = génération sandwich ou des « born to pay 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Générations de la cris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= les jeunes actuels nés pendant les « vingt piteuses » (décennies 80 et 90)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t qui arriveront à la retraite à partir de 2030-2035 = génération de l’incertitude, fin des perspectives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ptimistes, situations très inégales et dépendantes (de la famille, de l’état-provide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Générations des enfants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= celles qui arriveront à la retraite vers 2040, avec de nombreux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roblèmes non résolus : épuisement des ressources naturelles, atteintes à l’environnement,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incertitudes sur l’avenir des systèmes de répartition et de protection soc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Générations ignorées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3333cc"/>
                </a:solidFill>
                <a:latin typeface="Times New Roman"/>
              </a:rPr>
              <a:t>(ou reléguées)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= celles du grand âge (80 ans et plus) avec de nombreux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roblèmes de santé, de pauvreté, de solitude, …, que les autres générations peinent à régler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ex: le risque de dépend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160" y="5867280"/>
            <a:ext cx="8876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nostic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a perspective de conflits intergénérationnels n ’est pas à exclure mais elle n ’est p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ès vraisemblable (pas d ’identité collective des générations, pas d ’idéologies structurantes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210680" y="117360"/>
            <a:ext cx="682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ques pistes de réflex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la mise en œuvre de politiques intégrées des â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6160" y="1179360"/>
            <a:ext cx="8692920" cy="560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valoriser la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condition âgé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et définir un nouveau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statut de la vieilless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(rôles actifs de producteur et d’acteur social à part entière et non seulement de consommate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ovoquer une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inversion partiel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u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flux intergénérationnel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es ressources (des vieux vers les jeunes, en opposition à la situation actuelle) pour éviter un affrontement des générations et une accentuation du déséquilibre entre les structures démographiques et les structures économiques et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favoriser une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déspécialisatio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es âges pour éviter une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ségrégatio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des âges et resituerles différentes étapes de la progression en âge dans la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globalité des cycles de 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éduire les divergences entre les différentes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échelles des âg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: chronologique, biologique et soc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cevoir de nouvelles formes de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répartition des bénéfices collectif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entre les générations(qui ne soient pas uniquement basées sur le travail) et négocier collectivementun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nouveau contrat social intergénérati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ncourager une meilleure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cohabitation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entre le travail et l’oisiveté et entre le développement technologique et le vieillis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8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velopper une véritable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éthique des sociétés vieillie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et combattre le 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</a:rPr>
              <a:t>déni de vieillis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ur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PW21 02.09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48440" y="198360"/>
            <a:ext cx="59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 secours : les vieux débarquent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18880" y="746280"/>
            <a:ext cx="666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schéma explicatif «pessimiste» du vieilliss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type causaliste et détermi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89680" y="1839960"/>
            <a:ext cx="8509320" cy="4789440"/>
            <a:chOff x="589680" y="1839960"/>
            <a:chExt cx="8509320" cy="4789440"/>
          </a:xfrm>
        </p:grpSpPr>
        <p:sp>
          <p:nvSpPr>
            <p:cNvPr id="52" name=""/>
            <p:cNvSpPr/>
            <p:nvPr/>
          </p:nvSpPr>
          <p:spPr>
            <a:xfrm>
              <a:off x="589680" y="1916280"/>
              <a:ext cx="2751480" cy="96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RTAL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rtalité infant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ngév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3640" y="1839960"/>
              <a:ext cx="3143160" cy="96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ECOND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atal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éclin démographi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3400" y="3529080"/>
              <a:ext cx="2269800" cy="140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IEILLISSE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DIVIDU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rbid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capac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épendan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02280" y="3529080"/>
              <a:ext cx="3996720" cy="1407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IEILLISS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MOGRAPHI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portion de vie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âge moy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 de dépendance (J+V/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82160" y="5421240"/>
              <a:ext cx="3400560" cy="1188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IEILLISSEMENT SOCIE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ification des représentation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s valeurs collectives 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s comportements soci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52680" y="24382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666880"/>
              <a:ext cx="236232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24080" y="4267080"/>
              <a:ext cx="198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28954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62920" y="281952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24080" y="4724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648320" y="4800600"/>
              <a:ext cx="45720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8800" y="4952880"/>
              <a:ext cx="0" cy="167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62920" y="4952880"/>
              <a:ext cx="0" cy="167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720" y="2362320"/>
              <a:ext cx="3808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990720" y="2666880"/>
              <a:ext cx="3808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43600" y="2286000"/>
              <a:ext cx="3808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943600" y="2590560"/>
              <a:ext cx="3808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6680" y="4267080"/>
              <a:ext cx="5335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66680" y="4495680"/>
              <a:ext cx="5335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6680" y="4724280"/>
              <a:ext cx="5335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410080" y="4267080"/>
              <a:ext cx="5335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410080" y="4495680"/>
              <a:ext cx="5335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410080" y="4724280"/>
              <a:ext cx="5335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7520" y="228600"/>
            <a:ext cx="8796960" cy="6095880"/>
            <a:chOff x="227520" y="228600"/>
            <a:chExt cx="8796960" cy="6095880"/>
          </a:xfrm>
        </p:grpSpPr>
        <p:sp>
          <p:nvSpPr>
            <p:cNvPr id="77" name=""/>
            <p:cNvSpPr/>
            <p:nvPr/>
          </p:nvSpPr>
          <p:spPr>
            <a:xfrm>
              <a:off x="2894400" y="347760"/>
              <a:ext cx="3053160" cy="106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IEILLISSEMENT SOCIE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odification des représentation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s valeurs collectives 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s comportements socia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95840" y="2062080"/>
              <a:ext cx="3304800" cy="1796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sprit «malthusien» 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cherche de la sécurité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ésistance au changement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poratisme, protectionnism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servatisme politiqu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érontocrati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xisme moral,  xénophobie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7520" y="2290680"/>
              <a:ext cx="2397960" cy="130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ductivité du trav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obilité géograph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t professionnel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sprit d’entrepr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ynamisme collec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86920" y="2278080"/>
              <a:ext cx="2437560" cy="130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épendance migrato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énurie de ressourc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uma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ômage des jeu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hésion soc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2680" y="4729320"/>
              <a:ext cx="3344400" cy="130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mande globale des mén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t consom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vestissements productifs (long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pétitivité internation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currence entre p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59240" y="4729320"/>
              <a:ext cx="3254400" cy="155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«état providence» : endet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ublic, déficit de la S.S.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ession fisc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reaucrat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égalités soc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lidarités intergénérationnel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7920" y="228600"/>
              <a:ext cx="0" cy="205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20120" y="304920"/>
              <a:ext cx="0" cy="19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9720" y="14479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47920" y="3581280"/>
              <a:ext cx="0" cy="106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0120" y="3581280"/>
              <a:ext cx="0" cy="106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057040" y="1447920"/>
              <a:ext cx="10666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1447920"/>
              <a:ext cx="137160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52680" y="388620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38680" y="3886200"/>
              <a:ext cx="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3623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25909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312408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335268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480060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5562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53341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4120" y="617220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05720" y="335268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667200" y="232416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3009600" y="209556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667200" y="255276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667200" y="308628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371920" y="476244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371920" y="560088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371920" y="590544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5000" y="582948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600200" y="1066680"/>
            <a:ext cx="5692680" cy="5562360"/>
            <a:chOff x="1600200" y="1066680"/>
            <a:chExt cx="5692680" cy="5562360"/>
          </a:xfrm>
        </p:grpSpPr>
        <p:sp>
          <p:nvSpPr>
            <p:cNvPr id="110" name=""/>
            <p:cNvSpPr/>
            <p:nvPr/>
          </p:nvSpPr>
          <p:spPr>
            <a:xfrm>
              <a:off x="3927960" y="4698000"/>
              <a:ext cx="1074240" cy="84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09840" y="4970880"/>
              <a:ext cx="6285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s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llectif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51440" y="5263200"/>
              <a:ext cx="90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alité de v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600200" y="2893320"/>
              <a:ext cx="1087200" cy="861120"/>
              <a:chOff x="1600200" y="2893320"/>
              <a:chExt cx="1087200" cy="861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600200" y="2893320"/>
                <a:ext cx="1087200" cy="861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77040" y="3225600"/>
                <a:ext cx="560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rtiai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1894320" y="1937160"/>
              <a:ext cx="1087200" cy="859680"/>
              <a:chOff x="1894320" y="1937160"/>
              <a:chExt cx="1087200" cy="859680"/>
            </a:xfrm>
          </p:grpSpPr>
          <p:sp>
            <p:nvSpPr>
              <p:cNvPr id="117" name=""/>
              <p:cNvSpPr/>
              <p:nvPr/>
            </p:nvSpPr>
            <p:spPr>
              <a:xfrm>
                <a:off x="1894320" y="1937160"/>
                <a:ext cx="1087200" cy="85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037600" y="2268360"/>
                <a:ext cx="910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chnolog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209640" y="2893320"/>
              <a:ext cx="1083240" cy="831600"/>
              <a:chOff x="6209640" y="2893320"/>
              <a:chExt cx="1083240" cy="831600"/>
            </a:xfrm>
          </p:grpSpPr>
          <p:sp>
            <p:nvSpPr>
              <p:cNvPr id="120" name=""/>
              <p:cNvSpPr/>
              <p:nvPr/>
            </p:nvSpPr>
            <p:spPr>
              <a:xfrm>
                <a:off x="6209640" y="2893320"/>
                <a:ext cx="1034640" cy="831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81640" y="3157560"/>
                <a:ext cx="1011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dividualis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71720" y="3279960"/>
                <a:ext cx="52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olitu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955840" y="1969560"/>
              <a:ext cx="1073880" cy="859680"/>
              <a:chOff x="5955840" y="1969560"/>
              <a:chExt cx="1073880" cy="859680"/>
            </a:xfrm>
          </p:grpSpPr>
          <p:sp>
            <p:nvSpPr>
              <p:cNvPr id="124" name=""/>
              <p:cNvSpPr/>
              <p:nvPr/>
            </p:nvSpPr>
            <p:spPr>
              <a:xfrm>
                <a:off x="5955840" y="1969560"/>
                <a:ext cx="1073880" cy="85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56360" y="2313720"/>
                <a:ext cx="706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stru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3911040" y="1066680"/>
              <a:ext cx="1073880" cy="848160"/>
              <a:chOff x="3911040" y="1066680"/>
              <a:chExt cx="1073880" cy="848160"/>
            </a:xfrm>
          </p:grpSpPr>
          <p:sp>
            <p:nvSpPr>
              <p:cNvPr id="127" name=""/>
              <p:cNvSpPr/>
              <p:nvPr/>
            </p:nvSpPr>
            <p:spPr>
              <a:xfrm>
                <a:off x="3911040" y="1066680"/>
                <a:ext cx="1073880" cy="848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94360" y="1340280"/>
                <a:ext cx="535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tivité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63400" y="146304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émin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135040" y="1279080"/>
              <a:ext cx="1073880" cy="848160"/>
              <a:chOff x="5135040" y="1279080"/>
              <a:chExt cx="1073880" cy="848160"/>
            </a:xfrm>
          </p:grpSpPr>
          <p:sp>
            <p:nvSpPr>
              <p:cNvPr id="131" name=""/>
              <p:cNvSpPr/>
              <p:nvPr/>
            </p:nvSpPr>
            <p:spPr>
              <a:xfrm>
                <a:off x="5135040" y="1279080"/>
                <a:ext cx="1073880" cy="848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79840" y="1584000"/>
                <a:ext cx="739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ucture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76320" y="171072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oy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754360" y="1279080"/>
              <a:ext cx="1087200" cy="846720"/>
              <a:chOff x="2754360" y="1279080"/>
              <a:chExt cx="1087200" cy="846720"/>
            </a:xfrm>
          </p:grpSpPr>
          <p:sp>
            <p:nvSpPr>
              <p:cNvPr id="135" name=""/>
              <p:cNvSpPr/>
              <p:nvPr/>
            </p:nvSpPr>
            <p:spPr>
              <a:xfrm>
                <a:off x="2754360" y="1279080"/>
                <a:ext cx="1087200" cy="84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72880" y="155376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igrations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81240" y="1672560"/>
                <a:ext cx="42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inter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03280" y="3154320"/>
              <a:ext cx="80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oissan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75920" y="327132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ductivit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095800" y="4476600"/>
              <a:ext cx="1210680" cy="859680"/>
              <a:chOff x="5095800" y="4476600"/>
              <a:chExt cx="1210680" cy="859680"/>
            </a:xfrm>
          </p:grpSpPr>
          <p:sp>
            <p:nvSpPr>
              <p:cNvPr id="141" name=""/>
              <p:cNvSpPr/>
              <p:nvPr/>
            </p:nvSpPr>
            <p:spPr>
              <a:xfrm>
                <a:off x="5095800" y="4476600"/>
                <a:ext cx="1088280" cy="85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17040" y="4749840"/>
                <a:ext cx="1189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émocratisation/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97680" y="4870800"/>
                <a:ext cx="950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roits Hom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955840" y="3808080"/>
              <a:ext cx="1073880" cy="849240"/>
              <a:chOff x="5955840" y="3808080"/>
              <a:chExt cx="1073880" cy="849240"/>
            </a:xfrm>
          </p:grpSpPr>
          <p:sp>
            <p:nvSpPr>
              <p:cNvPr id="145" name=""/>
              <p:cNvSpPr/>
              <p:nvPr/>
            </p:nvSpPr>
            <p:spPr>
              <a:xfrm>
                <a:off x="5955840" y="3808080"/>
                <a:ext cx="1073880" cy="849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171840" y="4078080"/>
                <a:ext cx="755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luralism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53840" y="419940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 valeu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2754360" y="4486680"/>
              <a:ext cx="1087200" cy="859680"/>
              <a:chOff x="2754360" y="4486680"/>
              <a:chExt cx="1087200" cy="859680"/>
            </a:xfrm>
          </p:grpSpPr>
          <p:sp>
            <p:nvSpPr>
              <p:cNvPr id="149" name=""/>
              <p:cNvSpPr/>
              <p:nvPr/>
            </p:nvSpPr>
            <p:spPr>
              <a:xfrm>
                <a:off x="2754360" y="4486680"/>
                <a:ext cx="1087200" cy="85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57040" y="4759920"/>
                <a:ext cx="793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Quantité e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12040" y="4881240"/>
                <a:ext cx="842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urée travai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911040" y="2893320"/>
              <a:ext cx="1087200" cy="859680"/>
              <a:chOff x="3911040" y="2893320"/>
              <a:chExt cx="1087200" cy="859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911040" y="2893320"/>
                <a:ext cx="1087200" cy="85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0920" y="32288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IEILLI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881720" y="3818520"/>
              <a:ext cx="1086840" cy="846360"/>
              <a:chOff x="1881720" y="3818520"/>
              <a:chExt cx="1086840" cy="846360"/>
            </a:xfrm>
          </p:grpSpPr>
          <p:sp>
            <p:nvSpPr>
              <p:cNvPr id="156" name=""/>
              <p:cNvSpPr/>
              <p:nvPr/>
            </p:nvSpPr>
            <p:spPr>
              <a:xfrm>
                <a:off x="1881720" y="3818520"/>
                <a:ext cx="1086840" cy="84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071440" y="4095000"/>
                <a:ext cx="81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roissance/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051640" y="421560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ductivit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159440" y="2931480"/>
              <a:ext cx="1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78800" y="2792520"/>
              <a:ext cx="3204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39" y="3843"/>
                  </a:moveTo>
                  <a:arcTo wR="10800" hR="10800" stAng="-8393946" swAng="2403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539" y="3843"/>
                  </a:moveTo>
                  <a:arcTo wR="10800" hR="10800" stAng="-8393946" swAng="24034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5280" y="2091960"/>
              <a:ext cx="524160" cy="72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53760" y="2018160"/>
              <a:ext cx="32004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069" y="17748"/>
                  </a:moveTo>
                  <a:arcTo wR="10800" hR="10800" stAng="2402345" swAng="2407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9069" y="17748"/>
                  </a:moveTo>
                  <a:arcTo wR="10800" hR="10800" stAng="2402345" swAng="24071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581280" y="2241000"/>
              <a:ext cx="524160" cy="7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29280" y="4355280"/>
              <a:ext cx="32004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31" y="3852"/>
                  </a:moveTo>
                  <a:arcTo wR="10800" hR="10800" stAng="-8397655" swAng="2407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531" y="3852"/>
                  </a:moveTo>
                  <a:arcTo wR="10800" hR="10800" stAng="-8397655" swAng="24071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85400" y="3653280"/>
              <a:ext cx="52416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46680" y="3855240"/>
              <a:ext cx="321120" cy="25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" y="8954"/>
                  </a:moveTo>
                  <a:arcTo wR="10800" hR="10800" stAng="-10209532" swAng="2403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" y="8954"/>
                  </a:moveTo>
                  <a:arcTo wR="10800" hR="10800" stAng="-10209532" swAng="24034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1080" y="3504240"/>
              <a:ext cx="9118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89680" y="3207600"/>
              <a:ext cx="319680" cy="2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7" y="14508"/>
                  </a:moveTo>
                  <a:arcTo wR="10800" hR="10800" stAng="9595082" swAng="240983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7" y="14508"/>
                  </a:moveTo>
                  <a:arcTo wR="10800" hR="10800" stAng="9595082" swAng="240983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41000" y="3334320"/>
              <a:ext cx="106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80440" y="3124800"/>
              <a:ext cx="320760" cy="2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43" y="7092"/>
                  </a:moveTo>
                  <a:arcTo wR="10800" hR="10800" stAng="-1204918" swAng="240983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43" y="7092"/>
                  </a:moveTo>
                  <a:arcTo wR="10800" hR="10800" stAng="-1204918" swAng="240983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088600" y="3250440"/>
              <a:ext cx="10612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50200" y="3017160"/>
              <a:ext cx="325440" cy="25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57" y="2539"/>
                  </a:moveTo>
                  <a:arcTo wR="10800" hR="10800" stAng="-2993946" swAng="2403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57" y="2539"/>
                  </a:moveTo>
                  <a:arcTo wR="10800" hR="10800" stAng="-2993946" swAng="24034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5033880" y="2666160"/>
              <a:ext cx="91404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33720" y="2433240"/>
              <a:ext cx="321120" cy="25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43" y="19061"/>
                  </a:moveTo>
                  <a:arcTo wR="10800" hR="10800" stAng="7806054" swAng="2403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3843" y="19061"/>
                  </a:moveTo>
                  <a:arcTo wR="10800" hR="10800" stAng="7806054" swAng="24034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845960" y="2612880"/>
              <a:ext cx="913680" cy="42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16320" y="1994760"/>
              <a:ext cx="320040" cy="25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4" y="21441"/>
                  </a:moveTo>
                  <a:arcTo wR="10800" hR="10800" stAng="5990468" swAng="2407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4" y="21441"/>
                  </a:moveTo>
                  <a:arcTo wR="10800" hR="10800" stAng="5990468" swAng="24071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672080" y="2219040"/>
              <a:ext cx="524520" cy="72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3400" y="1806480"/>
              <a:ext cx="32688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86" y="20952"/>
                  </a:moveTo>
                  <a:arcTo wR="10800" hR="10800" stAng="4202734" swAng="2399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86" y="20952"/>
                  </a:moveTo>
                  <a:arcTo wR="10800" hR="10800" stAng="4202734" swAng="239993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415040" y="2048760"/>
              <a:ext cx="1440" cy="83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45120" y="4460400"/>
              <a:ext cx="477360" cy="38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91" y="657"/>
                  </a:moveTo>
                  <a:arcTo wR="10800" hR="10800" stAng="-6605219" swAng="2405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7091" y="657"/>
                  </a:moveTo>
                  <a:arcTo wR="10800" hR="10800" stAng="-6605219" swAng="2405026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83800" y="3706200"/>
              <a:ext cx="1800" cy="765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1200" y="3495600"/>
              <a:ext cx="47736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93" y="20949"/>
                  </a:moveTo>
                  <a:arcTo wR="10800" hR="10800" stAng="4200193" swAng="2405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93" y="20949"/>
                  </a:moveTo>
                  <a:arcTo wR="10800" hR="10800" stAng="4200193" swAng="2405026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347720" y="3865320"/>
              <a:ext cx="1800" cy="77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7200" y="3419280"/>
              <a:ext cx="482400" cy="38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954" y="21441"/>
                  </a:moveTo>
                  <a:arcTo wR="10800" hR="10800" stAng="5990468" swAng="2403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8954" y="21441"/>
                  </a:moveTo>
                  <a:arcTo wR="10800" hR="10800" stAng="5990468" swAng="2403478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13960" y="3759120"/>
              <a:ext cx="484920" cy="68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67800" y="4313160"/>
              <a:ext cx="482040" cy="379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46" y="159"/>
                  </a:moveTo>
                  <a:arcTo wR="10800" hR="10800" stAng="-4809532" swAng="2407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46" y="159"/>
                  </a:moveTo>
                  <a:arcTo wR="10800" hR="10800" stAng="-4809532" swAng="2407188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715200" y="3685680"/>
              <a:ext cx="498240" cy="65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2600" y="3259080"/>
              <a:ext cx="483840" cy="3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843" y="19061"/>
                  </a:moveTo>
                  <a:arcTo wR="10800" hR="10800" stAng="7806054" swAng="2403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3843" y="19061"/>
                  </a:moveTo>
                  <a:arcTo wR="10800" hR="10800" stAng="7806054" swAng="2403478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896200" y="3536640"/>
              <a:ext cx="846720" cy="392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10440" y="3834360"/>
              <a:ext cx="48024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57" y="2539"/>
                  </a:moveTo>
                  <a:arcTo wR="10800" hR="10800" stAng="-2993946" swAng="2403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57" y="2539"/>
                  </a:moveTo>
                  <a:arcTo wR="10800" hR="10800" stAng="-2993946" swAng="2403478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138840" y="3546720"/>
              <a:ext cx="860040" cy="38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52680" y="3154680"/>
              <a:ext cx="484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43" y="7092"/>
                  </a:moveTo>
                  <a:arcTo wR="10800" hR="10800" stAng="-1204918" swAng="240983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43" y="7092"/>
                  </a:moveTo>
                  <a:arcTo wR="10800" hR="10800" stAng="-1204918" swAng="2409836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2922120" y="3344760"/>
              <a:ext cx="96804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61200" y="3058200"/>
              <a:ext cx="484920" cy="38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7" y="14508"/>
                  </a:moveTo>
                  <a:arcTo wR="10800" hR="10800" stAng="9595082" swAng="2409836"/>
                  <a:lnTo>
                    <a:pt x="10800" y="10800"/>
                  </a:lnTo>
                  <a:close/>
                </a:path>
                <a:path fill="none" w="21600" h="21600">
                  <a:moveTo>
                    <a:pt x="657" y="14508"/>
                  </a:moveTo>
                  <a:arcTo wR="10800" hR="10800" stAng="9595082" swAng="2409836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07920" y="3250440"/>
              <a:ext cx="968040" cy="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84680" y="2855880"/>
              <a:ext cx="480240" cy="38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" y="8954"/>
                  </a:moveTo>
                  <a:arcTo wR="10800" hR="10800" stAng="-10209532" swAng="2403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" y="8954"/>
                  </a:moveTo>
                  <a:arcTo wR="10800" hR="10800" stAng="-10209532" swAng="2403478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76480" y="2570040"/>
              <a:ext cx="846720" cy="38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29440" y="2475360"/>
              <a:ext cx="4816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76" y="12434"/>
                  </a:moveTo>
                  <a:arcTo wR="10800" hR="10800" stAng="522133" swAng="242300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76" y="12434"/>
                  </a:moveTo>
                  <a:arcTo wR="10800" hR="10800" stAng="522133" swAng="2423004"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057120" y="2749680"/>
              <a:ext cx="846720" cy="38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5440" y="4621680"/>
              <a:ext cx="32148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62" y="5927"/>
                  </a:moveTo>
                  <a:arcTo wR="10800" hR="10800" stAng="-9190681" swAng="2412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62" y="5927"/>
                  </a:moveTo>
                  <a:arcTo wR="10800" hR="10800" stAng="-9190681" swAng="2412318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19120" y="4619520"/>
              <a:ext cx="39240" cy="32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19480" y="1274760"/>
              <a:ext cx="320400" cy="25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33" y="20587"/>
                  </a:moveTo>
                  <a:arcTo wR="10800" hR="10800" stAng="6901013" swAng="2397973"/>
                  <a:lnTo>
                    <a:pt x="10800" y="10800"/>
                  </a:lnTo>
                  <a:close/>
                </a:path>
                <a:path fill="none" w="21600" h="21600">
                  <a:moveTo>
                    <a:pt x="6233" y="20587"/>
                  </a:moveTo>
                  <a:arcTo wR="10800" hR="10800" stAng="6901013" swAng="2397973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219120" y="1474920"/>
              <a:ext cx="54000" cy="52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78440" y="1931400"/>
              <a:ext cx="320760" cy="25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279160" y="2134440"/>
              <a:ext cx="38880" cy="41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85000" y="2017440"/>
              <a:ext cx="324720" cy="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385360" y="2219040"/>
              <a:ext cx="4068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81800" y="2877840"/>
              <a:ext cx="324720" cy="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982520" y="3079080"/>
              <a:ext cx="4068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90160" y="2965320"/>
              <a:ext cx="320760" cy="2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2090160" y="3164760"/>
              <a:ext cx="3924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05480" y="3822840"/>
              <a:ext cx="320040" cy="25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405480" y="4025160"/>
              <a:ext cx="3924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06720" y="2898360"/>
              <a:ext cx="320760" cy="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606720" y="3101040"/>
              <a:ext cx="4068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64440" y="1955520"/>
              <a:ext cx="324720" cy="2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364440" y="2155680"/>
              <a:ext cx="4068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72080" y="2038320"/>
              <a:ext cx="320760" cy="25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6472800" y="2241360"/>
              <a:ext cx="38880" cy="410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58400" y="1326600"/>
              <a:ext cx="324720" cy="25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558400" y="1528560"/>
              <a:ext cx="4068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6200" y="1071000"/>
              <a:ext cx="321120" cy="25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10" y="20378"/>
                  </a:moveTo>
                  <a:arcTo wR="10800" hR="10800" stAng="7051179" swAng="2428206"/>
                  <a:lnTo>
                    <a:pt x="10800" y="10800"/>
                  </a:lnTo>
                  <a:close/>
                </a:path>
                <a:path fill="none" w="21600" h="21600">
                  <a:moveTo>
                    <a:pt x="5810" y="20378"/>
                  </a:moveTo>
                  <a:arcTo wR="10800" hR="10800" stAng="7051179" swAng="2428206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34760" y="1273320"/>
              <a:ext cx="3924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32800" y="3833280"/>
              <a:ext cx="320760" cy="25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333160" y="4035240"/>
              <a:ext cx="3888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21800" y="4705920"/>
              <a:ext cx="32400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244" y="20592"/>
                  </a:moveTo>
                  <a:arcTo wR="10800" hR="10800" stAng="6897118" swAng="2395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6244" y="20592"/>
                  </a:moveTo>
                  <a:arcTo wR="10800" hR="10800" stAng="6897118" swAng="2395178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320000" y="4907160"/>
              <a:ext cx="54000" cy="529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5440" y="4470840"/>
              <a:ext cx="320040" cy="25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29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29640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45440" y="4672800"/>
              <a:ext cx="4068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57160" y="5657040"/>
              <a:ext cx="48420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" y="14502"/>
                  </a:moveTo>
                  <a:arcTo wR="10800" hR="10800" stAng="9597065" swAng="240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" y="14502"/>
                  </a:moveTo>
                  <a:arcTo wR="10800" hR="10800" stAng="9597065" swAng="2405870"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14880" y="5848560"/>
              <a:ext cx="25524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7080" y="5848560"/>
              <a:ext cx="324360" cy="2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54" y="14502"/>
                  </a:moveTo>
                  <a:arcTo wR="10800" hR="10800" stAng="9597065" swAng="2405870"/>
                  <a:lnTo>
                    <a:pt x="10800" y="10800"/>
                  </a:lnTo>
                  <a:close/>
                </a:path>
                <a:path fill="none" w="21600" h="21600">
                  <a:moveTo>
                    <a:pt x="654" y="14502"/>
                  </a:moveTo>
                  <a:arcTo wR="10800" hR="10800" stAng="9597065" swAng="24058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14880" y="5975640"/>
              <a:ext cx="337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03360" y="6370200"/>
              <a:ext cx="320400" cy="2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58" y="5934"/>
                  </a:moveTo>
                  <a:arcTo wR="10800" hR="10800" stAng="-9193270" swAng="24149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8" y="5934"/>
                  </a:moveTo>
                  <a:arcTo wR="10800" hR="10800" stAng="-9193270" swAng="2414907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14880" y="6369480"/>
              <a:ext cx="40680" cy="309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4160" y="5977800"/>
              <a:ext cx="324720" cy="25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97" y="20371"/>
                  </a:moveTo>
                  <a:arcTo wR="10800" hR="10800" stAng="7055837" swAng="2431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5797" y="20371"/>
                  </a:moveTo>
                  <a:arcTo wR="10800" hR="10800" stAng="7055837" swAng="2431793"/>
                </a:path>
              </a:pathLst>
            </a:cu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114880" y="6177960"/>
              <a:ext cx="40680" cy="42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57120" y="5763240"/>
              <a:ext cx="85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ation fo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55320" y="5891400"/>
              <a:ext cx="91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lation fa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30600" y="6073200"/>
              <a:ext cx="184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ndance à l'accroiss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29880" y="6379920"/>
              <a:ext cx="166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ndance à la dimin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94200" y="5758560"/>
              <a:ext cx="2363400" cy="87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1181880" y="29052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vieillissement : un phénomène structura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 cœur des grands courants sociéta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053000" y="74520"/>
            <a:ext cx="739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 a-t-il des remèdes au vieillisseme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87600" y="700200"/>
            <a:ext cx="6340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mesures classiques : trop mécaniqu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87360" y="1383120"/>
            <a:ext cx="7875000" cy="4706640"/>
            <a:chOff x="387360" y="1383120"/>
            <a:chExt cx="7875000" cy="4706640"/>
          </a:xfrm>
        </p:grpSpPr>
        <p:sp>
          <p:nvSpPr>
            <p:cNvPr id="247" name=""/>
            <p:cNvSpPr/>
            <p:nvPr/>
          </p:nvSpPr>
          <p:spPr>
            <a:xfrm>
              <a:off x="2673360" y="2597040"/>
              <a:ext cx="1816200" cy="2197080"/>
            </a:xfrm>
            <a:prstGeom prst="rect">
              <a:avLst/>
            </a:prstGeom>
            <a:gradFill rotWithShape="0">
              <a:gsLst>
                <a:gs pos="0">
                  <a:srgbClr val="9f9f9f"/>
                </a:gs>
                <a:gs pos="50000">
                  <a:srgbClr val="b2b2b2"/>
                </a:gs>
                <a:gs pos="100000">
                  <a:srgbClr val="9f9f9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7360" y="3130560"/>
              <a:ext cx="1892160" cy="9777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6680" y="3306600"/>
              <a:ext cx="17730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émograph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27000" y="3154320"/>
              <a:ext cx="159624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nan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eilliss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6826320" y="1454040"/>
              <a:ext cx="1434960" cy="1054080"/>
              <a:chOff x="6826320" y="1454040"/>
              <a:chExt cx="1434960" cy="1054080"/>
            </a:xfrm>
          </p:grpSpPr>
          <p:sp>
            <p:nvSpPr>
              <p:cNvPr id="252" name=""/>
              <p:cNvSpPr/>
              <p:nvPr/>
            </p:nvSpPr>
            <p:spPr>
              <a:xfrm>
                <a:off x="6826320" y="1454040"/>
                <a:ext cx="1434960" cy="10540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12720" y="1630440"/>
                <a:ext cx="119088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olu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tiel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826320" y="5035680"/>
              <a:ext cx="1436040" cy="1054080"/>
              <a:chOff x="6826320" y="5035680"/>
              <a:chExt cx="1436040" cy="1054080"/>
            </a:xfrm>
          </p:grpSpPr>
          <p:sp>
            <p:nvSpPr>
              <p:cNvPr id="255" name=""/>
              <p:cNvSpPr/>
              <p:nvPr/>
            </p:nvSpPr>
            <p:spPr>
              <a:xfrm>
                <a:off x="6826320" y="5035680"/>
                <a:ext cx="1434960" cy="10540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09840" y="5059440"/>
                <a:ext cx="135252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olu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ng ter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86000" y="3657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3733920" y="1600200"/>
              <a:ext cx="312408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495680" y="2362320"/>
              <a:ext cx="23623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4495320" y="3962160"/>
              <a:ext cx="358164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4495680" y="4419720"/>
              <a:ext cx="236232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3962160" y="4800600"/>
              <a:ext cx="281916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3800" y="25146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495320" y="358128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0580000">
              <a:off x="4254840" y="1706400"/>
              <a:ext cx="23169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minution p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ausse cotis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0580000">
              <a:off x="4814280" y="2391840"/>
              <a:ext cx="18111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mé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mps de trav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55800" y="3230640"/>
              <a:ext cx="1596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apitalis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960000">
              <a:off x="4384440" y="4061880"/>
              <a:ext cx="3511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longement vie professionnel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gmentation population a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">
              <a:off x="4989960" y="4754520"/>
              <a:ext cx="1459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mig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900000">
              <a:off x="4766400" y="5135400"/>
              <a:ext cx="988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alit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66600" y="6202440"/>
            <a:ext cx="354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ource : d’après D. Pène, p.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22440" y="716040"/>
            <a:ext cx="791208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t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compenser les effets du vieillissement démographique sur le coût des pensions en Belgique entre 1995 et 2045, il faudrait en théori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toutes choses égales par ailleurs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er les cotisations par un coefficient 1,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minuer le montant des pensions de 4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er l’âge de la retraite de 8,7 ann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oître la population active de 7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1840" y="5851440"/>
            <a:ext cx="421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: G. Calot et al., EU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 ’immigration peut-elle pallier au vieillissement de la popul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migrations de remplacement d ’après les Nations Unies (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28600" y="1066680"/>
          <a:ext cx="4800600" cy="300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48006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809880" y="3855960"/>
          <a:ext cx="4800600" cy="3002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855960"/>
                    <a:ext cx="480060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340960" y="2162160"/>
            <a:ext cx="30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Évolution passée et future de l ’U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9520" y="5014800"/>
            <a:ext cx="323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Écart de population totale da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 différents scénarios par ra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 scénario de référence (en mill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30400" y="150840"/>
            <a:ext cx="730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 du développement occid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38280" y="1039680"/>
            <a:ext cx="598536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nouvelles sociétés industri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sociétés post mode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sociétés de services et de lois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sociétés longévitales ou de gér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sociétés multigénérationn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07960" y="2203560"/>
            <a:ext cx="6248520" cy="32036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828000" y="63972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 ’âge dans sa relativité multidimensionn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1240" y="6031080"/>
            <a:ext cx="507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À partir d ’un schéma de J. Véron dans l ’Arithmétique de l ’hom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6:53:54Z</dcterms:created>
  <dc:creator>remy</dc:creator>
  <dc:description/>
  <dc:language>en-US</dc:language>
  <cp:lastModifiedBy>Marie-Anne Delahaut</cp:lastModifiedBy>
  <cp:lastPrinted>2003-05-08T17:12:36Z</cp:lastPrinted>
  <dcterms:modified xsi:type="dcterms:W3CDTF">2003-09-08T09:31:06Z</dcterms:modified>
  <cp:revision>34</cp:revision>
  <dc:subject/>
  <dc:title>Aucun titre de diapositive</dc:title>
</cp:coreProperties>
</file>