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143F-3667-43E4-831B-D6D6DE6E8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67057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7920" y="3935160"/>
            <a:ext cx="67057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C10B-4E3E-4C83-BEA3-77AB3FF1F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437920" y="393516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74120" y="393516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D000-5571-40D4-A5D1-8ADA65206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5200" y="140508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972480" y="140508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437920" y="393516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705200" y="393516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972480" y="393516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D5A1-6380-43E5-83A2-0CFB0261E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437920" y="1405080"/>
            <a:ext cx="67057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67057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437920" y="130320"/>
            <a:ext cx="6705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7920" y="393516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437920" y="1405080"/>
            <a:ext cx="67057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0435-06AF-448D-B5E7-A5B068B00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120" y="393516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7920" y="3935160"/>
            <a:ext cx="67057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67057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37920" y="3935160"/>
            <a:ext cx="67057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437920" y="393516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874120" y="393516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5200" y="140508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972480" y="140508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437920" y="393516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705200" y="393516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972480" y="3935160"/>
            <a:ext cx="21589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67057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909D-8E7A-4186-B4DB-4BC76E8E3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61B6-994B-4946-A490-05ACAF564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6EAC-BDE6-4696-A7BE-43492013D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437920" y="130320"/>
            <a:ext cx="6705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E6E9-CDD3-434A-B86B-A38FF27AE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393516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4D18-64C2-44E7-A319-B5A1947DC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74120" y="393516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3AFA-6155-47D8-831D-F2A5050FE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74120" y="1405080"/>
            <a:ext cx="32720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37920" y="3935160"/>
            <a:ext cx="67057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3E8A-3504-475C-A1DE-DEDB1FC53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0" y="990720"/>
            <a:ext cx="1703520" cy="3581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37920" y="1405080"/>
            <a:ext cx="67057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943600" y="653400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&lt;footer&gt;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Presentatieti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60880" y="6536880"/>
            <a:ext cx="419400" cy="336600"/>
          </a:xfrm>
          <a:prstGeom prst="rect">
            <a:avLst/>
          </a:prstGeom>
          <a:noFill/>
          <a:ln w="3240">
            <a:solidFill>
              <a:srgbClr val="000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4882-743D-48B9-98D8-920C2CFD6BF3}" type="slidenum">
              <a:rPr b="1" lang="en-GB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80880"/>
            <a:ext cx="9144000" cy="869760"/>
            <a:chOff x="0" y="380880"/>
            <a:chExt cx="9144000" cy="869760"/>
          </a:xfrm>
        </p:grpSpPr>
        <p:sp>
          <p:nvSpPr>
            <p:cNvPr id="6" name=""/>
            <p:cNvSpPr/>
            <p:nvPr/>
          </p:nvSpPr>
          <p:spPr>
            <a:xfrm>
              <a:off x="1524240" y="380880"/>
              <a:ext cx="913680" cy="86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7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74760"/>
                </a:path>
              </a:pathLst>
            </a:cu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438280" y="838080"/>
              <a:ext cx="6705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80880"/>
              <a:ext cx="19810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A_RB_Trans" descr=""/>
          <p:cNvPicPr/>
          <p:nvPr/>
        </p:nvPicPr>
        <p:blipFill>
          <a:blip r:embed="rId3"/>
          <a:stretch/>
        </p:blipFill>
        <p:spPr>
          <a:xfrm>
            <a:off x="0" y="5899320"/>
            <a:ext cx="1523880" cy="806400"/>
          </a:xfrm>
          <a:prstGeom prst="rect">
            <a:avLst/>
          </a:prstGeom>
          <a:ln w="0">
            <a:noFill/>
          </a:ln>
        </p:spPr>
      </p:pic>
      <p:grpSp>
        <p:nvGrpSpPr>
          <p:cNvPr id="10" name=""/>
          <p:cNvGrpSpPr/>
          <p:nvPr/>
        </p:nvGrpSpPr>
        <p:grpSpPr>
          <a:xfrm>
            <a:off x="-879480" y="-3465360"/>
            <a:ext cx="11394000" cy="11040120"/>
            <a:chOff x="-879480" y="-3465360"/>
            <a:chExt cx="11394000" cy="11040120"/>
          </a:xfrm>
        </p:grpSpPr>
        <p:sp>
          <p:nvSpPr>
            <p:cNvPr id="11" name=""/>
            <p:cNvSpPr/>
            <p:nvPr/>
          </p:nvSpPr>
          <p:spPr>
            <a:xfrm rot="17681400">
              <a:off x="38880" y="-646560"/>
              <a:ext cx="9405720" cy="5570280"/>
            </a:xfrm>
            <a:prstGeom prst="ellipse">
              <a:avLst/>
            </a:prstGeom>
            <a:noFill/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9176000">
              <a:off x="-20880" y="-1069200"/>
              <a:ext cx="9677160" cy="6209640"/>
            </a:xfrm>
            <a:prstGeom prst="ellipse">
              <a:avLst/>
            </a:prstGeom>
            <a:noFill/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1600200" y="5243400"/>
            <a:ext cx="12344040" cy="1850400"/>
            <a:chOff x="-1600200" y="5243400"/>
            <a:chExt cx="12344040" cy="1850400"/>
          </a:xfrm>
        </p:grpSpPr>
        <p:sp>
          <p:nvSpPr>
            <p:cNvPr id="51" name=""/>
            <p:cNvSpPr/>
            <p:nvPr/>
          </p:nvSpPr>
          <p:spPr>
            <a:xfrm>
              <a:off x="-1600200" y="5860080"/>
              <a:ext cx="1234404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-1600200" y="5243400"/>
              <a:ext cx="9412560" cy="113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54960" y="5243400"/>
              <a:ext cx="514440" cy="51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60160" y="5512680"/>
              <a:ext cx="390924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4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6" name="A_RB_Trans" descr=""/>
          <p:cNvPicPr/>
          <p:nvPr/>
        </p:nvPicPr>
        <p:blipFill>
          <a:blip r:embed="rId3"/>
          <a:stretch/>
        </p:blipFill>
        <p:spPr>
          <a:xfrm>
            <a:off x="0" y="57240"/>
            <a:ext cx="1467000" cy="777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8612000">
            <a:off x="-573480" y="1308240"/>
            <a:ext cx="9405720" cy="5568840"/>
          </a:xfrm>
          <a:prstGeom prst="ellipse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0106600">
            <a:off x="-609480" y="907920"/>
            <a:ext cx="9677160" cy="6210360"/>
          </a:xfrm>
          <a:prstGeom prst="ellipse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b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80ba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onie-en-ligne.net/wallonie-prospective/2003_ProspectiveChangement/Actes-2003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4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66"/>
                </a:solidFill>
                <a:latin typeface="Arial"/>
              </a:rPr>
              <a:t>Les innovations résillaires, de l'entreprise au politiq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130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0000"/>
                </a:solidFill>
                <a:latin typeface="Arial"/>
              </a:rPr>
              <a:t>3 caractéristiques de l'Economie des réseaux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67057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66"/>
                </a:solidFill>
                <a:latin typeface="Arial"/>
              </a:rPr>
              <a:t>Pression sur les mar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66"/>
                </a:solidFill>
                <a:latin typeface="Arial"/>
              </a:rPr>
              <a:t>Délocalisation vers les pays à bas salaires, aussi des jobs hautement intellectu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66"/>
                </a:solidFill>
                <a:latin typeface="Arial"/>
              </a:rPr>
              <a:t>Croissance divergente dans les pays industrialisé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1675-B9FF-49F8-BCDD-52D2D3DB3F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-152640"/>
            <a:ext cx="6705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0000"/>
                </a:solidFill>
                <a:latin typeface="Arial"/>
              </a:rPr>
              <a:t>"La Nouvelle Economie"</a:t>
            </a:r>
            <a:r>
              <a:rPr b="0" lang="nl-BE" sz="32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200"/>
            </a:br>
            <a:r>
              <a:rPr b="0" lang="nl-BE" sz="2400" spc="-1" strike="noStrike">
                <a:solidFill>
                  <a:srgbClr val="cc0000"/>
                </a:solidFill>
                <a:latin typeface="Arial"/>
              </a:rPr>
              <a:t>(Action d'Agoria 1996-2003)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67057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66"/>
                </a:solidFill>
                <a:latin typeface="Arial"/>
              </a:rPr>
              <a:t>VISION ET STRATEGI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80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ba"/>
                </a:solidFill>
                <a:latin typeface="Arial"/>
              </a:rPr>
              <a:t>INNOVATION &amp; PLUS DE FLEXIBILITE</a:t>
            </a:r>
            <a:endParaRPr b="0" lang="en-US" sz="2000" spc="-1" strike="noStrike">
              <a:solidFill>
                <a:srgbClr val="0080b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80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ba"/>
                </a:solidFill>
                <a:latin typeface="Arial"/>
              </a:rPr>
              <a:t>SE FOCUSER SUR LES CORE COMPETENCES</a:t>
            </a:r>
            <a:endParaRPr b="0" lang="en-US" sz="2000" spc="-1" strike="noStrike">
              <a:solidFill>
                <a:srgbClr val="0080b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66"/>
                </a:solidFill>
                <a:latin typeface="Arial"/>
              </a:rPr>
              <a:t>LES COLLABORATEUR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80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ba"/>
                </a:solidFill>
                <a:latin typeface="Arial"/>
              </a:rPr>
              <a:t>CONSTRUIRE UNE "ORGANISATION APPRENANTE"</a:t>
            </a:r>
            <a:endParaRPr b="0" lang="en-US" sz="2000" spc="-1" strike="noStrike">
              <a:solidFill>
                <a:srgbClr val="0080b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66"/>
                </a:solidFill>
                <a:latin typeface="Arial"/>
              </a:rPr>
              <a:t>ALLIANCES (VIRTUELLES) ET RESEAU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80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ba"/>
                </a:solidFill>
                <a:latin typeface="Arial"/>
              </a:rPr>
              <a:t>TROUVER DES PARTENAIRES COMPLEMENTAIRES MULTIDISCIPLINAIRES</a:t>
            </a:r>
            <a:endParaRPr b="0" lang="en-US" sz="2000" spc="-1" strike="noStrike">
              <a:solidFill>
                <a:srgbClr val="0080b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B: LES TIC NE FIGURENT PAS DANS CETTE LISTE !!! </a:t>
            </a:r>
            <a:r>
              <a:rPr b="0" lang="en-GB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ENABLING TECHNOLOGY / CATALISATE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2846-F41A-48D5-A6BB-CB7EA8C3D6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19044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cc0000"/>
                </a:solidFill>
                <a:latin typeface="Arial"/>
              </a:rPr>
              <a:t>3 idées d'actions pour la politiqu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1405080"/>
            <a:ext cx="67057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core plus d'entrepreneuriat international (en réseau)…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ba"/>
                </a:solidFill>
                <a:latin typeface="Arial"/>
              </a:rPr>
              <a:t>cfr. Roadshow "Entreprendre ensemble"</a:t>
            </a:r>
            <a:endParaRPr b="0" lang="en-US" sz="2000" spc="-1" strike="noStrike">
              <a:solidFill>
                <a:srgbClr val="0080b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a création d'une classe intellectuelle étend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ba"/>
                </a:solidFill>
                <a:latin typeface="Arial"/>
              </a:rPr>
              <a:t>"dépoussiérage" de l'enseignement / re-engineering de l'enseignement supérieur</a:t>
            </a:r>
            <a:endParaRPr b="0" lang="en-US" sz="2000" spc="-1" strike="noStrike">
              <a:solidFill>
                <a:srgbClr val="0080b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 services télécom vraiment concurrentiels sur la nouvelle infrastrastructure large ban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ba"/>
                </a:solidFill>
                <a:latin typeface="Arial"/>
              </a:rPr>
              <a:t>Cfr. Etude du Bureau du Plan</a:t>
            </a:r>
            <a:endParaRPr b="0" lang="en-US" sz="2000" spc="-1" strike="noStrike">
              <a:solidFill>
                <a:srgbClr val="0080b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ba"/>
              </a:solidFill>
              <a:latin typeface="Arial"/>
            </a:endParaRPr>
          </a:p>
          <a:p>
            <a:pPr lvl="1" marL="743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ba"/>
                </a:solidFill>
                <a:latin typeface="Arial"/>
              </a:rPr>
              <a:t>Retour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PW21 02.09.2003</a:t>
            </a:r>
            <a:endParaRPr b="0" lang="en-US" sz="1200" spc="-1" strike="noStrike">
              <a:solidFill>
                <a:srgbClr val="0080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8D92-B7FB-4449-B1B8-55DB332EE0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1:39:23Z</dcterms:created>
  <dc:creator>pslt</dc:creator>
  <dc:description/>
  <dc:language>en-US</dc:language>
  <cp:lastModifiedBy>Marie-Anne Delahaut</cp:lastModifiedBy>
  <dcterms:modified xsi:type="dcterms:W3CDTF">2003-09-08T09:27:41Z</dcterms:modified>
  <cp:revision>3</cp:revision>
  <dc:subject/>
  <dc:title>Les innovations résillaires, de l'entreprise au politique</dc:title>
</cp:coreProperties>
</file>