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99583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71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1440" y="1929960"/>
            <a:ext cx="7886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1440" y="3999960"/>
            <a:ext cx="7886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1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1440" y="1929960"/>
            <a:ext cx="3848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2800" y="1929960"/>
            <a:ext cx="3848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1440" y="3999960"/>
            <a:ext cx="3848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42800" y="3999960"/>
            <a:ext cx="3848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571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1440" y="1929960"/>
            <a:ext cx="2539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67960" y="1929960"/>
            <a:ext cx="2539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34120" y="1929960"/>
            <a:ext cx="2539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1440" y="3999960"/>
            <a:ext cx="2539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67960" y="3999960"/>
            <a:ext cx="2539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34120" y="3999960"/>
            <a:ext cx="2539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71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01440" y="1929960"/>
            <a:ext cx="7886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71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1440" y="1929960"/>
            <a:ext cx="7886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71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1440" y="1929960"/>
            <a:ext cx="3848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42800" y="1929960"/>
            <a:ext cx="3848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71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5712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71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1440" y="1929960"/>
            <a:ext cx="3848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2800" y="1929960"/>
            <a:ext cx="3848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01440" y="3999960"/>
            <a:ext cx="3848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71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1440" y="1929960"/>
            <a:ext cx="7886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71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1440" y="1929960"/>
            <a:ext cx="3848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2800" y="1929960"/>
            <a:ext cx="3848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42800" y="3999960"/>
            <a:ext cx="3848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71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1440" y="1929960"/>
            <a:ext cx="3848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2800" y="1929960"/>
            <a:ext cx="3848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01440" y="3999960"/>
            <a:ext cx="7886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1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1440" y="1929960"/>
            <a:ext cx="7886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01440" y="3999960"/>
            <a:ext cx="7886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1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1440" y="1929960"/>
            <a:ext cx="3848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2800" y="1929960"/>
            <a:ext cx="3848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01440" y="3999960"/>
            <a:ext cx="3848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42800" y="3999960"/>
            <a:ext cx="3848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1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1440" y="1929960"/>
            <a:ext cx="2539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7960" y="1929960"/>
            <a:ext cx="2539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4120" y="1929960"/>
            <a:ext cx="2539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01440" y="3999960"/>
            <a:ext cx="2539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7960" y="3999960"/>
            <a:ext cx="2539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34120" y="3999960"/>
            <a:ext cx="2539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71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1440" y="1929960"/>
            <a:ext cx="7886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71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1440" y="1929960"/>
            <a:ext cx="3848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2800" y="1929960"/>
            <a:ext cx="3848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1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5712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1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1440" y="1929960"/>
            <a:ext cx="3848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2800" y="1929960"/>
            <a:ext cx="3848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1440" y="3999960"/>
            <a:ext cx="3848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71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1440" y="1929960"/>
            <a:ext cx="3848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2800" y="1929960"/>
            <a:ext cx="3848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42800" y="3999960"/>
            <a:ext cx="3848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71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1440" y="1929960"/>
            <a:ext cx="3848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2800" y="1929960"/>
            <a:ext cx="3848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1440" y="3999960"/>
            <a:ext cx="7886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1440" y="1929960"/>
            <a:ext cx="7886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81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3200" indent="-190440">
              <a:lnSpc>
                <a:spcPct val="95000"/>
              </a:lnSpc>
              <a:spcBef>
                <a:spcPts val="814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54080" indent="-190440">
              <a:lnSpc>
                <a:spcPct val="95000"/>
              </a:lnSpc>
              <a:spcBef>
                <a:spcPts val="81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434960" indent="-190440">
              <a:lnSpc>
                <a:spcPct val="95000"/>
              </a:lnSpc>
              <a:spcBef>
                <a:spcPts val="814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816200" indent="-190440">
              <a:lnSpc>
                <a:spcPct val="95000"/>
              </a:lnSpc>
              <a:spcBef>
                <a:spcPts val="81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816200" indent="-190440">
              <a:lnSpc>
                <a:spcPct val="95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816200" indent="-190440">
              <a:lnSpc>
                <a:spcPct val="95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75240"/>
            <a:ext cx="7637400" cy="0"/>
          </a:xfrm>
          <a:prstGeom prst="line">
            <a:avLst/>
          </a:prstGeom>
          <a:ln w="9360">
            <a:solidFill>
              <a:srgbClr val="857c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459480"/>
            <a:ext cx="6094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 </a:t>
            </a:r>
            <a:fld id="{4D017BF0-5F9A-4DE0-AAA4-AA286FFC093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851040"/>
            <a:ext cx="8229600" cy="0"/>
          </a:xfrm>
          <a:prstGeom prst="line">
            <a:avLst/>
          </a:prstGeom>
          <a:ln w="9360">
            <a:solidFill>
              <a:srgbClr val="857c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51040"/>
            <a:ext cx="152280" cy="0"/>
          </a:xfrm>
          <a:prstGeom prst="line">
            <a:avLst/>
          </a:prstGeom>
          <a:ln w="9360">
            <a:solidFill>
              <a:srgbClr val="857c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662960" y="6140520"/>
            <a:ext cx="1123920" cy="450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802720" y="6375240"/>
            <a:ext cx="341280" cy="0"/>
          </a:xfrm>
          <a:prstGeom prst="line">
            <a:avLst/>
          </a:prstGeom>
          <a:ln w="9360">
            <a:solidFill>
              <a:srgbClr val="857c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320" y="123048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37440"/>
            <a:ext cx="7334280" cy="0"/>
          </a:xfrm>
          <a:prstGeom prst="line">
            <a:avLst/>
          </a:prstGeom>
          <a:ln w="9360">
            <a:solidFill>
              <a:srgbClr val="857c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58040" y="6037200"/>
            <a:ext cx="1422360" cy="571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802720" y="6337440"/>
            <a:ext cx="341280" cy="0"/>
          </a:xfrm>
          <a:prstGeom prst="line">
            <a:avLst/>
          </a:prstGeom>
          <a:ln w="9360">
            <a:solidFill>
              <a:srgbClr val="857c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allonie-en-ligne.net/wallonie-prospective/2003_ProspectiveChangement/Actes-2003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90720" y="3808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Arial"/>
              </a:rPr>
              <a:t>Conditions de succès d’un rés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15280" y="3284640"/>
            <a:ext cx="194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Liberté des ac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92360" y="5219640"/>
            <a:ext cx="21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Ouverture et pragmatis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64000" y="1125360"/>
            <a:ext cx="19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Besoins  des ac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4146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Règ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ffff00"/>
          </a:solidFill>
          <a:ln w="7632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808000" y="342900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ffff00"/>
          </a:solidFill>
          <a:ln w="7632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5975280" y="346500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ffff00"/>
          </a:solidFill>
          <a:ln w="7632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4427280" y="2276640"/>
            <a:ext cx="360360" cy="576000"/>
          </a:xfrm>
          <a:prstGeom prst="upArrow">
            <a:avLst>
              <a:gd name="adj1" fmla="val 50000"/>
              <a:gd name="adj2" fmla="val 39960"/>
            </a:avLst>
          </a:prstGeom>
          <a:solidFill>
            <a:srgbClr val="ffff00"/>
          </a:solidFill>
          <a:ln w="7632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64000" y="3213000"/>
            <a:ext cx="2089080" cy="100800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328464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Objectifs compat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lques réalisations en Wallon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80769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5000"/>
              </a:lnSpc>
              <a:spcBef>
                <a:spcPts val="81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Le CAW : écoute des besoins, objectifs transversaux et compatibles, partenaria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81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Clusters industriels, agricoles, en R&amp;D,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81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Projets de développement territoriaux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81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Politique en matière de recherch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81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Réforme de la politique de l’emplo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81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74600"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74600" indent="0">
              <a:lnSpc>
                <a:spcPct val="95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1371600"/>
            <a:ext cx="868680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712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ille d’analyse des fonctions des acteurs dans un projet de développement collecti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55344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2286000"/>
            <a:ext cx="8229600" cy="1447920"/>
          </a:xfrm>
          <a:prstGeom prst="parallelogram">
            <a:avLst>
              <a:gd name="adj" fmla="val -124874"/>
            </a:avLst>
          </a:prstGeom>
          <a:solidFill>
            <a:srgbClr val="ffff99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438280"/>
            <a:ext cx="11430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4424400"/>
            <a:ext cx="8153640" cy="1671480"/>
          </a:xfrm>
          <a:prstGeom prst="parallelogram">
            <a:avLst>
              <a:gd name="adj" fmla="val -107263"/>
            </a:avLst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380880"/>
            <a:ext cx="806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Arial"/>
              </a:rPr>
              <a:t>La dynamique de mise en œuvre du C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1143000"/>
            <a:ext cx="3962520" cy="533520"/>
          </a:xfrm>
          <a:prstGeom prst="parallelogram">
            <a:avLst>
              <a:gd name="adj" fmla="val 14015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uvernement wal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962520" y="2286000"/>
            <a:ext cx="182880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9347600">
            <a:off x="7011000" y="2742840"/>
            <a:ext cx="22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érateurs institionn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819520"/>
            <a:ext cx="16765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2438280"/>
            <a:ext cx="8384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2438280"/>
            <a:ext cx="4572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200400"/>
            <a:ext cx="11430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eur associat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2438280"/>
            <a:ext cx="9907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vo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ux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3048120"/>
            <a:ext cx="13716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édér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819520"/>
            <a:ext cx="114300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dic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0" idx="4"/>
            <a:endCxn id="115" idx="0"/>
          </p:cNvCxnSpPr>
          <p:nvPr/>
        </p:nvCxnSpPr>
        <p:spPr>
          <a:xfrm>
            <a:off x="2095200" y="3504960"/>
            <a:ext cx="1067400" cy="1143720"/>
          </a:xfrm>
          <a:prstGeom prst="straightConnector1">
            <a:avLst/>
          </a:prstGeom>
          <a:ln w="57240">
            <a:solidFill>
              <a:srgbClr val="00ff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7" idx="4"/>
            <a:endCxn id="117" idx="0"/>
          </p:cNvCxnSpPr>
          <p:nvPr/>
        </p:nvCxnSpPr>
        <p:spPr>
          <a:xfrm flipH="1">
            <a:off x="4304880" y="3428640"/>
            <a:ext cx="1334160" cy="1524600"/>
          </a:xfrm>
          <a:prstGeom prst="straightConnector1">
            <a:avLst/>
          </a:prstGeom>
          <a:ln w="57240">
            <a:solidFill>
              <a:srgbClr val="00ff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7" idx="4"/>
            <a:endCxn id="119" idx="0"/>
          </p:cNvCxnSpPr>
          <p:nvPr/>
        </p:nvCxnSpPr>
        <p:spPr>
          <a:xfrm flipH="1">
            <a:off x="5562000" y="3428640"/>
            <a:ext cx="76680" cy="1677240"/>
          </a:xfrm>
          <a:prstGeom prst="straightConnector1">
            <a:avLst/>
          </a:prstGeom>
          <a:ln w="57240">
            <a:solidFill>
              <a:srgbClr val="00ff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8" idx="2"/>
            <a:endCxn id="111" idx="6"/>
          </p:cNvCxnSpPr>
          <p:nvPr/>
        </p:nvCxnSpPr>
        <p:spPr>
          <a:xfrm flipH="1">
            <a:off x="3962160" y="2590560"/>
            <a:ext cx="3048480" cy="76680"/>
          </a:xfrm>
          <a:prstGeom prst="straightConnector1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3" idx="5"/>
            <a:endCxn id="112" idx="0"/>
          </p:cNvCxnSpPr>
          <p:nvPr/>
        </p:nvCxnSpPr>
        <p:spPr>
          <a:xfrm flipV="1">
            <a:off x="2652480" y="3047760"/>
            <a:ext cx="929160" cy="32400"/>
          </a:xfrm>
          <a:prstGeom prst="straightConnector1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04" idx="3"/>
            <a:endCxn id="111" idx="0"/>
          </p:cNvCxnSpPr>
          <p:nvPr/>
        </p:nvCxnSpPr>
        <p:spPr>
          <a:xfrm flipH="1">
            <a:off x="3466440" y="1676520"/>
            <a:ext cx="14929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4" idx="3"/>
            <a:endCxn id="107" idx="0"/>
          </p:cNvCxnSpPr>
          <p:nvPr/>
        </p:nvCxnSpPr>
        <p:spPr>
          <a:xfrm>
            <a:off x="4959000" y="1676160"/>
            <a:ext cx="680040" cy="1143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04" idx="3"/>
            <a:endCxn id="113" idx="0"/>
          </p:cNvCxnSpPr>
          <p:nvPr/>
        </p:nvCxnSpPr>
        <p:spPr>
          <a:xfrm flipH="1">
            <a:off x="2247480" y="1676160"/>
            <a:ext cx="2712240" cy="1143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04" idx="3"/>
            <a:endCxn id="108" idx="0"/>
          </p:cNvCxnSpPr>
          <p:nvPr/>
        </p:nvCxnSpPr>
        <p:spPr>
          <a:xfrm>
            <a:off x="4959360" y="1676520"/>
            <a:ext cx="247104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2971800" y="1676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rgan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07" idx="4"/>
            <a:endCxn id="128" idx="0"/>
          </p:cNvCxnSpPr>
          <p:nvPr/>
        </p:nvCxnSpPr>
        <p:spPr>
          <a:xfrm>
            <a:off x="5638320" y="3428640"/>
            <a:ext cx="801000" cy="1220040"/>
          </a:xfrm>
          <a:prstGeom prst="straightConnector1">
            <a:avLst/>
          </a:prstGeom>
          <a:ln w="57240">
            <a:solidFill>
              <a:srgbClr val="00ff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 rot="19168200">
            <a:off x="7166880" y="4937760"/>
            <a:ext cx="2284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opulation (s)-ci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4648320"/>
            <a:ext cx="19051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mma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4952880"/>
            <a:ext cx="1600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vet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5105520"/>
            <a:ext cx="18288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vaill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5410080"/>
            <a:ext cx="20574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repren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5334120"/>
            <a:ext cx="1676520" cy="46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u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3480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4648320"/>
            <a:ext cx="14479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cataires socia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15" idx="7"/>
            <a:endCxn id="128" idx="1"/>
          </p:cNvCxnSpPr>
          <p:nvPr/>
        </p:nvCxnSpPr>
        <p:spPr>
          <a:xfrm>
            <a:off x="3673440" y="4725720"/>
            <a:ext cx="2092680" cy="11880"/>
          </a:xfrm>
          <a:prstGeom prst="straightConnector1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"/>
          <p:cNvCxnSpPr>
            <a:stCxn id="130" idx="5"/>
            <a:endCxn id="119" idx="0"/>
          </p:cNvCxnSpPr>
          <p:nvPr/>
        </p:nvCxnSpPr>
        <p:spPr>
          <a:xfrm flipV="1">
            <a:off x="5261040" y="5105160"/>
            <a:ext cx="302400" cy="761040"/>
          </a:xfrm>
          <a:prstGeom prst="straightConnector1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5" name=""/>
          <p:cNvCxnSpPr>
            <a:stCxn id="115" idx="4"/>
            <a:endCxn id="119" idx="4"/>
          </p:cNvCxnSpPr>
          <p:nvPr/>
        </p:nvCxnSpPr>
        <p:spPr>
          <a:xfrm>
            <a:off x="3162240" y="5181480"/>
            <a:ext cx="2401200" cy="457920"/>
          </a:xfrm>
          <a:prstGeom prst="straightConnector1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6" name=""/>
          <p:cNvCxnSpPr>
            <a:stCxn id="104" idx="5"/>
            <a:endCxn id="102" idx="5"/>
          </p:cNvCxnSpPr>
          <p:nvPr/>
        </p:nvCxnSpPr>
        <p:spPr>
          <a:xfrm flipV="1" rot="10800000">
            <a:off x="1590120" y="1409400"/>
            <a:ext cx="2136960" cy="3852000"/>
          </a:xfrm>
          <a:prstGeom prst="bentConnector3">
            <a:avLst>
              <a:gd name="adj1" fmla="val 142577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07" idx="2"/>
            <a:endCxn id="112" idx="6"/>
          </p:cNvCxnSpPr>
          <p:nvPr/>
        </p:nvCxnSpPr>
        <p:spPr>
          <a:xfrm flipH="1">
            <a:off x="4266720" y="3124080"/>
            <a:ext cx="534240" cy="153360"/>
          </a:xfrm>
          <a:prstGeom prst="straightConnector1">
            <a:avLst/>
          </a:prstGeom>
          <a:ln w="57240">
            <a:solidFill>
              <a:srgbClr val="00ff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07" idx="7"/>
            <a:endCxn id="108" idx="2"/>
          </p:cNvCxnSpPr>
          <p:nvPr/>
        </p:nvCxnSpPr>
        <p:spPr>
          <a:xfrm flipV="1">
            <a:off x="6230520" y="2590920"/>
            <a:ext cx="780120" cy="317880"/>
          </a:xfrm>
          <a:prstGeom prst="straightConnector1">
            <a:avLst/>
          </a:prstGeom>
          <a:ln w="57240">
            <a:solidFill>
              <a:srgbClr val="00ff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07" idx="1"/>
            <a:endCxn id="111" idx="5"/>
          </p:cNvCxnSpPr>
          <p:nvPr/>
        </p:nvCxnSpPr>
        <p:spPr>
          <a:xfrm flipH="1" flipV="1">
            <a:off x="3817440" y="2828160"/>
            <a:ext cx="1229760" cy="80280"/>
          </a:xfrm>
          <a:prstGeom prst="straightConnector1">
            <a:avLst/>
          </a:prstGeom>
          <a:ln w="57240">
            <a:solidFill>
              <a:srgbClr val="00ff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6172200" y="38862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Actions d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00" idx="2"/>
            <a:endCxn id="104" idx="2"/>
          </p:cNvCxnSpPr>
          <p:nvPr/>
        </p:nvCxnSpPr>
        <p:spPr>
          <a:xfrm flipH="1" flipV="1">
            <a:off x="6940080" y="1409040"/>
            <a:ext cx="813600" cy="1600920"/>
          </a:xfrm>
          <a:prstGeom prst="bentConnector3">
            <a:avLst>
              <a:gd name="adj1" fmla="val -152324"/>
            </a:avLst>
          </a:prstGeom>
          <a:ln w="38160">
            <a:solidFill>
              <a:srgbClr val="00cc99"/>
            </a:solidFill>
            <a:prstDash val="dash"/>
            <a:miter/>
            <a:tailEnd len="med" type="triangle" w="med"/>
          </a:ln>
        </p:spPr>
      </p:cxnSp>
      <p:cxnSp>
        <p:nvCxnSpPr>
          <p:cNvPr id="142" name=""/>
          <p:cNvCxnSpPr>
            <a:stCxn id="102" idx="2"/>
            <a:endCxn id="104" idx="2"/>
          </p:cNvCxnSpPr>
          <p:nvPr/>
        </p:nvCxnSpPr>
        <p:spPr>
          <a:xfrm flipH="1" flipV="1">
            <a:off x="6939720" y="1409400"/>
            <a:ext cx="842040" cy="3852000"/>
          </a:xfrm>
          <a:prstGeom prst="bentConnector3">
            <a:avLst>
              <a:gd name="adj1" fmla="val -143755"/>
            </a:avLst>
          </a:prstGeom>
          <a:ln w="38160">
            <a:solidFill>
              <a:srgbClr val="00cc99"/>
            </a:solidFill>
            <a:prstDash val="dash"/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1219320" y="13874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Actions d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12" idx="5"/>
            <a:endCxn id="130" idx="0"/>
          </p:cNvCxnSpPr>
          <p:nvPr/>
        </p:nvCxnSpPr>
        <p:spPr>
          <a:xfrm>
            <a:off x="4065120" y="3438000"/>
            <a:ext cx="469080" cy="1972440"/>
          </a:xfrm>
          <a:prstGeom prst="straightConnector1">
            <a:avLst/>
          </a:prstGeom>
          <a:ln w="57240">
            <a:solidFill>
              <a:srgbClr val="00ff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848720" y="15238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Feed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9506600">
            <a:off x="510480" y="259020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érateurs fonctionn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flipH="1">
            <a:off x="2771280" y="1486080"/>
            <a:ext cx="1800360" cy="3311280"/>
          </a:xfrm>
          <a:prstGeom prst="line">
            <a:avLst/>
          </a:prstGeom>
          <a:ln w="5724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523880"/>
            <a:ext cx="1800360" cy="3273480"/>
          </a:xfrm>
          <a:prstGeom prst="line">
            <a:avLst/>
          </a:prstGeom>
          <a:ln w="5724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2205000"/>
            <a:ext cx="1009440" cy="287280"/>
          </a:xfrm>
          <a:prstGeom prst="ellipse">
            <a:avLst/>
          </a:prstGeom>
          <a:noFill/>
          <a:ln w="57240">
            <a:solidFill>
              <a:srgbClr val="99ffcc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19640" y="3573360"/>
            <a:ext cx="720720" cy="142920"/>
          </a:xfrm>
          <a:prstGeom prst="ellipse">
            <a:avLst/>
          </a:prstGeom>
          <a:noFill/>
          <a:ln w="57240">
            <a:solidFill>
              <a:srgbClr val="99ffcc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564000" y="1523880"/>
            <a:ext cx="1008000" cy="3345120"/>
          </a:xfrm>
          <a:prstGeom prst="line">
            <a:avLst/>
          </a:prstGeom>
          <a:ln w="19080">
            <a:solidFill>
              <a:srgbClr val="99ffcc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1523880"/>
            <a:ext cx="1079640" cy="3345120"/>
          </a:xfrm>
          <a:prstGeom prst="line">
            <a:avLst/>
          </a:prstGeom>
          <a:ln w="19080">
            <a:solidFill>
              <a:srgbClr val="99ffcc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211280" y="1523880"/>
            <a:ext cx="360360" cy="3417840"/>
          </a:xfrm>
          <a:prstGeom prst="line">
            <a:avLst/>
          </a:prstGeom>
          <a:ln w="19080">
            <a:solidFill>
              <a:srgbClr val="99ffcc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523880"/>
            <a:ext cx="360360" cy="3417840"/>
          </a:xfrm>
          <a:prstGeom prst="line">
            <a:avLst/>
          </a:prstGeom>
          <a:ln w="19080">
            <a:solidFill>
              <a:srgbClr val="99ffcc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4365720"/>
            <a:ext cx="503280" cy="142920"/>
          </a:xfrm>
          <a:prstGeom prst="ellipse">
            <a:avLst/>
          </a:prstGeom>
          <a:noFill/>
          <a:ln w="57240">
            <a:solidFill>
              <a:srgbClr val="99ffcc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3808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Arial"/>
              </a:rPr>
              <a:t>L’invariance d’échelle dans un système perform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5013360"/>
            <a:ext cx="6985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Les changements sont liés à la culture (l’ensemble des valeurs, croyances, ressentis et comportements partag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La culture est influencée par les perceptions, donc aux comportements de ceux qui ont de l’influ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71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orités pour l’a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0769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85000"/>
              </a:lnSpc>
              <a:spcBef>
                <a:spcPts val="81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Continuer à montrer l’exemple dans son action (CAW – mobilisation de l’administratio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81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Communiquer des valeurs innovantes (travail par projets et par objectifs – priorités et résultat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81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Assouplir les règles et les structures qui compartimentent (missions interdépartementales, bassins de vie, lobbies,…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81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Influencer les opérateurs vers la qualité de services (partenariats pour satisfaire des besoins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81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Encourager les réseaux thématiques et territoriaux (exigences de synergies et de transversalité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74600" indent="0" algn="ctr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our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PW21 02.09.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1125360"/>
            <a:ext cx="619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57c7a"/>
                </a:solidFill>
                <a:latin typeface="Arial"/>
              </a:rPr>
              <a:t>Soutenir le changement de paradig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7T15:01:09Z</dcterms:created>
  <dc:creator>Michaël Van Cutsem</dc:creator>
  <dc:description>Deloitte &amp; Touche On-Screen presentation template for Microsoft PowerPoint 97</dc:description>
  <dc:language>en-US</dc:language>
  <cp:lastModifiedBy>Marie-Anne Delahaut</cp:lastModifiedBy>
  <cp:lastPrinted>2001-07-10T10:37:21Z</cp:lastPrinted>
  <dcterms:modified xsi:type="dcterms:W3CDTF">2003-09-25T15:03:08Z</dcterms:modified>
  <cp:revision>46</cp:revision>
  <dc:subject/>
  <dc:title>Suivi des “intangibles” du  Contrat d’Avenir pour la Wallonie</dc:title>
</cp:coreProperties>
</file>