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40538"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3AA24-BF7D-4F16-8110-B6DC58311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1BB92-69B7-46D5-8810-373CAB11A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B915F-72AB-4F02-AC75-C7EB58B22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C0B40-34C5-47ED-AB72-B89738B5D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2CC84-88E9-4124-B3F1-3A0518E15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44E9B-1D15-47A0-BDCB-C5E112293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2070C-6731-4051-98DA-0234CAB74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E3C1D-051E-4726-8F3E-364EB52D1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5F936-4797-4F40-A71A-7D992F35E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F3BFD-38AD-4181-BA90-0E30745ED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83686-C310-4D70-ABA2-EE9750178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C1C5D-0113-4778-A60E-24CE9F85F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12ED-44E2-475A-9B26-DCD5C72B9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wallonie-en-ligne.net/wallonie-prospective/2003_ProspectiveChangement/Actes-2003.htm" TargetMode="Externa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457200"/>
            <a:ext cx="91440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a prospective à l’écoute de la Wallonie</a:t>
            </a:r>
            <a:br>
              <a:rPr sz="4000"/>
            </a:br>
            <a:r>
              <a:rPr b="1" lang="fr-FR" sz="4000" spc="-1" strike="noStrike">
                <a:solidFill>
                  <a:srgbClr val="000000"/>
                </a:solidFill>
                <a:latin typeface="Times New Roman"/>
              </a:rPr>
              <a:t>Où va le changement?</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371240" y="2286000"/>
            <a:ext cx="6705720" cy="3733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Table ronde: la révolution cognitive</a:t>
            </a:r>
            <a:endParaRPr b="0" lang="en-US" sz="32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Times New Roman"/>
              </a:rPr>
              <a:t>Intervention d’Anne-Marie Straus, Présidente de l’Agence wallonne des Télécommunications (AWT)</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TIC – Biotechnologies</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Times New Roman"/>
              </a:rPr>
              <a:t>Deux innovations radicales dont les effets seront déterminants pour le XXIe sièc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447920" y="1447560"/>
            <a:ext cx="6400800" cy="3809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Les TIC et la biologie moléculaire sont deux innovations radicales dont les effets seront déterminants pour le XXIe siècle dans la mesure où elles sont universelles, évolutives et en expansion au niveau mond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1371600" y="1066320"/>
            <a:ext cx="6400800" cy="48006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Times New Roman"/>
              </a:rPr>
              <a:t>Pourquoi</a:t>
            </a:r>
            <a:endParaRPr b="0" lang="en-US" sz="36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Times New Roman"/>
              </a:rPr>
              <a:t>Les effets structurants des technologies de l’information et de la communication constituent un des éléments clés de l’organisation de la société de demain. </a:t>
            </a:r>
            <a:endParaRPr b="0"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Times New Roman"/>
              </a:rPr>
              <a:t>Les avancées de la biologie moléculaire et les transformations du génome entraîneront des modifications fondamentales de l’espèce humain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9320" y="533520"/>
            <a:ext cx="6781680" cy="59436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Times New Roman"/>
              </a:rPr>
              <a:t>Quelle place la Wallonie occupe-t-elle dans cette évolution?</a:t>
            </a:r>
            <a:endParaRPr b="0" lang="en-US" sz="36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Constats</a:t>
            </a:r>
            <a:endParaRPr b="0" lang="en-US" sz="28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imes New Roman"/>
              </a:rPr>
              <a:t>En investissant dans les domaines:</a:t>
            </a:r>
            <a:endParaRPr b="0" lang="en-US" sz="21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imes New Roman"/>
              </a:rPr>
              <a:t>Du vivant et de la santé</a:t>
            </a:r>
            <a:endParaRPr b="0" lang="en-US" sz="21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imes New Roman"/>
              </a:rPr>
              <a:t>Des nouvelles technologies de l’information et de la communication (NTIC)</a:t>
            </a:r>
            <a:endParaRPr b="0" lang="en-US" sz="21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imes New Roman"/>
              </a:rPr>
              <a:t>Des nanotechnologies</a:t>
            </a:r>
            <a:endParaRPr b="0" lang="en-US" sz="21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Times New Roman"/>
              </a:rPr>
              <a:t>En y ajoutant ses connaissances fondamentales et appliquées dans les domaines de l’espace et des matériaux, </a:t>
            </a:r>
            <a:r>
              <a:rPr b="1" lang="fr-FR" sz="2100" spc="-1" strike="noStrike">
                <a:solidFill>
                  <a:srgbClr val="000000"/>
                </a:solidFill>
                <a:latin typeface="Times New Roman"/>
              </a:rPr>
              <a:t>la Wallonie s’est délibérément placé sur les voies du futur.</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533520"/>
            <a:ext cx="6400800" cy="58672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Times New Roman"/>
              </a:rPr>
              <a:t>Les TIC en Région wallonne</a:t>
            </a:r>
            <a:endParaRPr b="0" lang="en-US" sz="36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1. La situation de la Wallonie</a:t>
            </a:r>
            <a:endParaRPr b="0"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Si l’on s’en réfère aux analyses  des statisticiens (OCDE, Bureau du Plan, …) et aux enquêtes de l’AWT en matière d’usages des TIC auprès des citoyens, des entreprises et du secteur de la santé, on peux observer que « le secteur TIC a été dynamique en Belgique à partir de la deuxième moitié des années nonante mais que son importance en terme de valeur ajoutée et d’emplois est restée faibles ».</a:t>
            </a:r>
            <a:endParaRPr b="0" lang="en-US" sz="22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Dans </a:t>
            </a:r>
            <a:r>
              <a:rPr b="0" i="1" lang="fr-FR" sz="1600" spc="-1" strike="noStrike">
                <a:solidFill>
                  <a:srgbClr val="000000"/>
                </a:solidFill>
                <a:latin typeface="Times New Roman"/>
              </a:rPr>
              <a:t>Les Technologies de l’information et de la communication en Belgique</a:t>
            </a:r>
            <a:r>
              <a:rPr b="0" lang="fr-FR" sz="1600" spc="-1" strike="noStrike">
                <a:solidFill>
                  <a:srgbClr val="000000"/>
                </a:solidFill>
                <a:latin typeface="Times New Roman"/>
              </a:rPr>
              <a:t>, Bureau fédéral du Plan, sous la direction de Gijs Dekkers et Chantal Kege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295280" y="1447560"/>
            <a:ext cx="6400800" cy="380988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Times New Roman"/>
              </a:rPr>
              <a:t>2. Les atout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Times New Roman"/>
              </a:rPr>
              <a:t>La diffusion des TIC dans l’économie s’est accélérée depuis 1998</a:t>
            </a:r>
            <a:endParaRPr b="0"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Times New Roman"/>
              </a:rPr>
              <a:t>Les outils de RD touchent des technologies très pointues</a:t>
            </a:r>
            <a:endParaRPr b="0"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Times New Roman"/>
              </a:rPr>
              <a:t>Le nombre d’ordinateurs et d’hôtes Internet est largement au-dessus de la moyenne européenn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457200"/>
            <a:ext cx="6400800" cy="586728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Times New Roman"/>
              </a:rPr>
              <a:t>3. Quelques bémols</a:t>
            </a:r>
            <a:endParaRPr b="0"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Au niveau des citoyens</a:t>
            </a:r>
            <a:endParaRPr b="0" lang="en-US" sz="24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Il existe encore des problèmes sérieux dans l’appropriation des TIC en fonction </a:t>
            </a:r>
            <a:endParaRPr b="0"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de l’âge </a:t>
            </a:r>
            <a:endParaRPr b="0"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de la localisation géographique</a:t>
            </a:r>
            <a:endParaRPr b="0"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Au niveau des entreprises</a:t>
            </a:r>
            <a:endParaRPr b="0" lang="en-US" sz="24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Si 96% des PME possèdent un équipement informatique et que 85% d’entres-elles disposent d’un accès à Internet,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Times New Roman"/>
              </a:rPr>
              <a:t>70% des PME n’identifient pas clairement l’apport d’Internet ni pour elles ni pour leurs client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371600" y="1295280"/>
            <a:ext cx="6400800" cy="3657600"/>
          </a:xfrm>
          <a:prstGeom prst="rect">
            <a:avLst/>
          </a:prstGeom>
          <a:noFill/>
          <a:ln w="0">
            <a:noFill/>
          </a:ln>
        </p:spPr>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Times New Roman"/>
              </a:rPr>
              <a:t>4. Les conditions du développement</a:t>
            </a:r>
            <a:endParaRPr b="0" lang="en-US" sz="28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Maintenir les investissements en RD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Assurer l’interconnectivité des infrastructures et des réseaux</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Assurer la sécurité du point de vue</a:t>
            </a:r>
            <a:endParaRPr b="0" lang="en-US" sz="2400" spc="-1" strike="noStrike">
              <a:solidFill>
                <a:srgbClr val="000000"/>
              </a:solidFill>
              <a:latin typeface="Times New Roman"/>
            </a:endParaRPr>
          </a:p>
          <a:p>
            <a:pPr lvl="1" marL="990720" indent="-53352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Times New Roman"/>
              </a:rPr>
              <a:t>Informatique</a:t>
            </a:r>
            <a:endParaRPr b="0" lang="en-US" sz="2200" spc="-1" strike="noStrike">
              <a:solidFill>
                <a:srgbClr val="000000"/>
              </a:solidFill>
              <a:latin typeface="Times New Roman"/>
            </a:endParaRPr>
          </a:p>
          <a:p>
            <a:pPr lvl="1" marL="990720" indent="-53352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Times New Roman"/>
              </a:rPr>
              <a:t>Juridique</a:t>
            </a:r>
            <a:endParaRPr b="0" lang="en-US" sz="2200" spc="-1" strike="noStrike">
              <a:solidFill>
                <a:srgbClr val="000000"/>
              </a:solidFill>
              <a:latin typeface="Times New Roman"/>
            </a:endParaRPr>
          </a:p>
          <a:p>
            <a:pPr lvl="1" marL="990720" indent="-53352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BE" sz="2200" spc="-1" strike="noStrike">
                <a:solidFill>
                  <a:srgbClr val="000000"/>
                </a:solidFill>
                <a:latin typeface="Times New Roman"/>
              </a:rPr>
              <a:t>Ethiq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761760" y="228600"/>
            <a:ext cx="7986600" cy="6324480"/>
          </a:xfrm>
          <a:prstGeom prst="rect">
            <a:avLst/>
          </a:prstGeom>
          <a:noFill/>
          <a:ln w="0">
            <a:noFill/>
          </a:ln>
        </p:spPr>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Times New Roman"/>
              </a:rPr>
              <a:t>5. Des actions de terrains pour les entreprises</a:t>
            </a:r>
            <a:endParaRPr b="0" lang="en-US" sz="28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000000"/>
                </a:solidFill>
                <a:latin typeface="Times New Roman"/>
              </a:rPr>
              <a:t>Continuer les enquêtes sur l’usage des TIC en Région wallonne</a:t>
            </a:r>
            <a:endParaRPr b="0" lang="en-US" sz="2100" spc="-1" strike="noStrike">
              <a:solidFill>
                <a:srgbClr val="000000"/>
              </a:solidFill>
              <a:latin typeface="Times New Roman"/>
            </a:endParaRPr>
          </a:p>
          <a:p>
            <a:pPr marL="609480" indent="-60948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000000"/>
                </a:solidFill>
                <a:latin typeface="Times New Roman"/>
              </a:rPr>
              <a:t>Favoriser l’intégration des TIC dans les entreprises et plus particulièrement dans les PME</a:t>
            </a:r>
            <a:endParaRPr b="0" lang="en-US" sz="2100" spc="-1" strike="noStrike">
              <a:solidFill>
                <a:srgbClr val="000000"/>
              </a:solidFill>
              <a:latin typeface="Times New Roman"/>
            </a:endParaRPr>
          </a:p>
          <a:p>
            <a:pPr lvl="1" marL="990720" indent="-533520">
              <a:lnSpc>
                <a:spcPct val="100000"/>
              </a:lnSpc>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Les aides à l’e-business</a:t>
            </a:r>
            <a:endParaRPr b="0" lang="en-US" sz="1900" spc="-1" strike="noStrike">
              <a:solidFill>
                <a:srgbClr val="000000"/>
              </a:solidFill>
              <a:latin typeface="Times New Roman"/>
            </a:endParaRPr>
          </a:p>
          <a:p>
            <a:pPr lvl="1" marL="990720" indent="-533520">
              <a:lnSpc>
                <a:spcPct val="100000"/>
              </a:lnSpc>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La mise en œuvre de formulaires en ligne</a:t>
            </a:r>
            <a:endParaRPr b="0" lang="en-US" sz="1900" spc="-1" strike="noStrike">
              <a:solidFill>
                <a:srgbClr val="000000"/>
              </a:solidFill>
              <a:latin typeface="Times New Roman"/>
            </a:endParaRPr>
          </a:p>
          <a:p>
            <a:pPr marL="609480" indent="-60948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000000"/>
                </a:solidFill>
                <a:latin typeface="Times New Roman"/>
              </a:rPr>
              <a:t>Assurer la formation et l’information des entreprises</a:t>
            </a:r>
            <a:endParaRPr b="0" lang="en-US" sz="2100" spc="-1" strike="noStrike">
              <a:solidFill>
                <a:srgbClr val="000000"/>
              </a:solidFill>
              <a:latin typeface="Times New Roman"/>
            </a:endParaRPr>
          </a:p>
          <a:p>
            <a:pPr lvl="1" marL="990720" indent="-533520">
              <a:lnSpc>
                <a:spcPct val="100000"/>
              </a:lnSpc>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Les centres de compétence</a:t>
            </a:r>
            <a:endParaRPr b="0" lang="en-US" sz="1900" spc="-1" strike="noStrike">
              <a:solidFill>
                <a:srgbClr val="000000"/>
              </a:solidFill>
              <a:latin typeface="Times New Roman"/>
            </a:endParaRPr>
          </a:p>
          <a:p>
            <a:pPr lvl="1" marL="990720" indent="-533520">
              <a:lnSpc>
                <a:spcPct val="100000"/>
              </a:lnSpc>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Les campagnes d’information sur les problèmes d’actualité</a:t>
            </a:r>
            <a:endParaRPr b="0" lang="en-US" sz="1900" spc="-1" strike="noStrike">
              <a:solidFill>
                <a:srgbClr val="000000"/>
              </a:solidFill>
              <a:latin typeface="Times New Roman"/>
            </a:endParaRPr>
          </a:p>
          <a:p>
            <a:pPr marL="609480" indent="-60948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100" spc="-1" strike="noStrike">
                <a:solidFill>
                  <a:srgbClr val="000000"/>
                </a:solidFill>
                <a:latin typeface="Times New Roman"/>
              </a:rPr>
              <a:t>Les actions visant à améliorer la qualité des infrastructures</a:t>
            </a:r>
            <a:endParaRPr b="0" lang="en-US" sz="2100" spc="-1" strike="noStrike">
              <a:solidFill>
                <a:srgbClr val="000000"/>
              </a:solidFill>
              <a:latin typeface="Times New Roman"/>
            </a:endParaRPr>
          </a:p>
          <a:p>
            <a:pPr lvl="1" marL="990720" indent="-533520">
              <a:lnSpc>
                <a:spcPct val="100000"/>
              </a:lnSpc>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Quitter les connexions à faible débit pour les connexions à haut débit</a:t>
            </a:r>
            <a:endParaRPr b="0" lang="en-US" sz="1900" spc="-1" strike="noStrike">
              <a:solidFill>
                <a:srgbClr val="000000"/>
              </a:solidFill>
              <a:latin typeface="Times New Roman"/>
            </a:endParaRPr>
          </a:p>
          <a:p>
            <a:pPr lvl="1" marL="990720" indent="-533520">
              <a:lnSpc>
                <a:spcPct val="100000"/>
              </a:lnSpc>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Passer de la connectivité à l’interconnectivité </a:t>
            </a:r>
            <a:endParaRPr b="0" lang="en-US" sz="1900" spc="-1" strike="noStrike">
              <a:solidFill>
                <a:srgbClr val="000000"/>
              </a:solidFill>
              <a:latin typeface="Times New Roman"/>
            </a:endParaRPr>
          </a:p>
          <a:p>
            <a:pPr lvl="1" marL="990720" indent="-533520">
              <a:lnSpc>
                <a:spcPct val="100000"/>
              </a:lnSpc>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Favoriser l’effet plate-forme entre opérateurs télécoms et télédistributeurs</a:t>
            </a:r>
            <a:endParaRPr b="0" lang="en-US" sz="1900" spc="-1" strike="noStrike">
              <a:solidFill>
                <a:srgbClr val="000000"/>
              </a:solidFill>
              <a:latin typeface="Times New Roman"/>
            </a:endParaRPr>
          </a:p>
          <a:p>
            <a:pPr lvl="1" marL="990720" indent="-533520">
              <a:lnSpc>
                <a:spcPct val="100000"/>
              </a:lnSpc>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Times New Roman"/>
              </a:rPr>
              <a:t>Produire et sauvegarder des contenus numérisés</a:t>
            </a:r>
            <a:endParaRPr b="0" lang="en-US" sz="1900" spc="-1" strike="noStrike">
              <a:solidFill>
                <a:srgbClr val="000000"/>
              </a:solidFill>
              <a:latin typeface="Times New Roman"/>
            </a:endParaRPr>
          </a:p>
          <a:p>
            <a:pPr lvl="1" marL="990720" indent="-533520" algn="ctr">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400" spc="-1" strike="noStrike">
                <a:solidFill>
                  <a:srgbClr val="000000"/>
                </a:solidFill>
                <a:latin typeface="Times New Roman"/>
              </a:rPr>
              <a:t>Retour </a:t>
            </a:r>
            <a:r>
              <a:rPr b="0" lang="en-US" sz="1400" spc="-1" strike="noStrike" u="sng">
                <a:solidFill>
                  <a:srgbClr val="ccccff"/>
                </a:solidFill>
                <a:uFillTx/>
                <a:latin typeface="Times New Roman"/>
                <a:hlinkClick r:id="rId1"/>
              </a:rPr>
              <a:t>MPW21 02.09.20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1T13:06:08Z</dcterms:created>
  <dc:creator>Joëlle Thirion</dc:creator>
  <dc:description/>
  <dc:language>en-US</dc:language>
  <cp:lastModifiedBy>Marie-Anne Delahaut</cp:lastModifiedBy>
  <dcterms:modified xsi:type="dcterms:W3CDTF">2003-09-08T09:26:24Z</dcterms:modified>
  <cp:revision>10</cp:revision>
  <dc:subject/>
  <dc:title>La prospective à l’écoute de la Wallonie Où va le changement?</dc:title>
</cp:coreProperties>
</file>