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2107-B9C2-4CD1-9048-8667D7D6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0C9C-66E9-4C15-92DB-E8690B0E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51A0-E4B5-4D86-BB62-4A6F5100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FE02-0B0C-41BD-B847-A0175B11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B078-4C17-4586-808D-5BD954BC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ABC1-7EE3-4910-93BE-DAE10777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F680-A03D-40D1-A1C9-31196F60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9FE6-A9D2-419E-B4EA-B2E9524C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EC5D-CB74-4301-8B9D-FE7F12A3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FAA1-935F-497E-A293-0D5B4914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0887-509C-48B5-B84D-0A8BBD25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07C3-1157-4DCE-A631-7CA6EAEF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BD96-EC2D-4CD9-8810-8F8398DFF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2600" y="4800240"/>
            <a:ext cx="0" cy="205740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JD-logo2001" descr=""/>
          <p:cNvPicPr/>
          <p:nvPr/>
        </p:nvPicPr>
        <p:blipFill>
          <a:blip r:embed="rId2"/>
          <a:stretch/>
        </p:blipFill>
        <p:spPr>
          <a:xfrm>
            <a:off x="7351560" y="5956200"/>
            <a:ext cx="161784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mailto:destatte.ph@destree.org" TargetMode="External"/><Relationship Id="rId2" Type="http://schemas.openxmlformats.org/officeDocument/2006/relationships/hyperlink" Target="http://www.destree.org/" TargetMode="External"/><Relationship Id="rId3" Type="http://schemas.openxmlformats.org/officeDocument/2006/relationships/hyperlink" Target="http://www.wallonie-en-ligne.net/" TargetMode="External"/><Relationship Id="rId4" Type="http://schemas.openxmlformats.org/officeDocument/2006/relationships/hyperlink" Target="http://www.wallonie-en-ligne.net/wallonie-prospective/index.htm" TargetMode="External"/><Relationship Id="rId5" Type="http://schemas.openxmlformats.org/officeDocument/2006/relationships/hyperlink" Target="http://www.wallonie-en-ligne.net/index.htm" TargetMode="External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>
            <a:off x="0" y="4800240"/>
            <a:ext cx="0" cy="205740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4600" y="890640"/>
            <a:ext cx="83041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045474"/>
                </a:solidFill>
                <a:latin typeface="Arial"/>
                <a:ea typeface="Times New Roman"/>
              </a:rPr>
              <a:t>Prospective territoriale et gouver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57320" y="2097000"/>
            <a:ext cx="707868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  <a:ea typeface="Times New Roman"/>
              </a:rPr>
              <a:t>Intervention de Philippe Desta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45474"/>
                </a:solidFill>
                <a:latin typeface="Arial"/>
                <a:ea typeface="Times New Roman"/>
              </a:rPr>
              <a:t>directeur de l’Institut Jules-Dest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  <a:ea typeface="Times New Roman"/>
              </a:rPr>
              <a:t>au séminaire Prospective-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45474"/>
                </a:solidFill>
                <a:latin typeface="Arial"/>
                <a:ea typeface="Times New Roman"/>
              </a:rPr>
              <a:t>La prospective territoriale, outil d’a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45474"/>
                </a:solidFill>
                <a:latin typeface="Arial"/>
                <a:ea typeface="Times New Roman"/>
              </a:rPr>
              <a:t>à la planification spatiale, outil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45474"/>
                </a:solidFill>
                <a:latin typeface="Arial"/>
                <a:ea typeface="Times New Roman"/>
              </a:rPr>
              <a:t>gouvernanc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  <a:ea typeface="Times New Roman"/>
              </a:rPr>
              <a:t>Paris, le 18 septembr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2162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30400" y="1663560"/>
            <a:ext cx="6858000" cy="18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JD-logo2001" descr=""/>
          <p:cNvPicPr/>
          <p:nvPr/>
        </p:nvPicPr>
        <p:blipFill>
          <a:blip r:embed="rId1"/>
          <a:stretch/>
        </p:blipFill>
        <p:spPr>
          <a:xfrm>
            <a:off x="212760" y="5896080"/>
            <a:ext cx="161748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60880" y="1290600"/>
            <a:ext cx="3178080" cy="3116160"/>
          </a:xfrm>
          <a:prstGeom prst="ellipse">
            <a:avLst/>
          </a:prstGeom>
          <a:solidFill>
            <a:srgbClr val="04547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97040" y="1282680"/>
            <a:ext cx="3309840" cy="311616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28960" y="2973240"/>
            <a:ext cx="3270240" cy="334188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2880" y="87948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cc0000"/>
                </a:solidFill>
                <a:latin typeface="Arial"/>
              </a:rPr>
              <a:t>L’É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24600" y="771480"/>
            <a:ext cx="109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45474"/>
                </a:solidFill>
                <a:latin typeface="Arial"/>
              </a:rPr>
              <a:t>La sociétéciv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81080" y="598176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cc99"/>
                </a:solidFill>
                <a:latin typeface="Arial"/>
              </a:rPr>
              <a:t>Le sec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cc99"/>
                </a:solidFill>
                <a:latin typeface="Arial"/>
              </a:rPr>
              <a:t>pri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2600" y="4800240"/>
            <a:ext cx="0" cy="205740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IJD-logo2001" descr=""/>
          <p:cNvPicPr/>
          <p:nvPr/>
        </p:nvPicPr>
        <p:blipFill>
          <a:blip r:embed="rId1"/>
          <a:stretch/>
        </p:blipFill>
        <p:spPr>
          <a:xfrm>
            <a:off x="231840" y="6006960"/>
            <a:ext cx="1617480" cy="712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-9000" y="0"/>
            <a:ext cx="88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45474"/>
                </a:solidFill>
                <a:latin typeface="Arial"/>
              </a:rPr>
              <a:t>Les sept (?) types de relations d’un système complexe de gouver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0" y="406080"/>
            <a:ext cx="8720280" cy="126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1360" y="5349960"/>
            <a:ext cx="2386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45474"/>
                </a:solidFill>
                <a:latin typeface="Arial"/>
              </a:rPr>
              <a:t>PNUD + Sam AG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400" spc="-1" strike="noStrike">
                <a:solidFill>
                  <a:srgbClr val="045474"/>
                </a:solidFill>
                <a:latin typeface="Arial"/>
              </a:rPr>
              <a:t>Commonweal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400" spc="-1" strike="noStrike">
                <a:solidFill>
                  <a:srgbClr val="045474"/>
                </a:solidFill>
                <a:latin typeface="Arial"/>
              </a:rPr>
              <a:t>Secretaria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400" spc="-1" strike="noStrike">
                <a:solidFill>
                  <a:srgbClr val="045474"/>
                </a:solidFill>
                <a:latin typeface="Arial"/>
              </a:rPr>
              <a:t>Management and Tra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400" spc="-1" strike="noStrike">
                <a:solidFill>
                  <a:srgbClr val="045474"/>
                </a:solidFill>
                <a:latin typeface="Arial"/>
              </a:rPr>
              <a:t>Service Division</a:t>
            </a:r>
            <a:r>
              <a:rPr b="1" lang="fr-BE" sz="1400" spc="-1" strike="noStrike">
                <a:solidFill>
                  <a:srgbClr val="045474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68640" y="3776760"/>
            <a:ext cx="2157480" cy="580680"/>
          </a:xfrm>
          <a:prstGeom prst="rect">
            <a:avLst/>
          </a:prstGeom>
          <a:solidFill>
            <a:srgbClr val="00cc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cc0000"/>
                </a:solidFill>
                <a:latin typeface="Arial"/>
              </a:rPr>
              <a:t>Gouvern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cc0000"/>
                </a:solidFill>
                <a:latin typeface="Arial"/>
              </a:rPr>
              <a:t>&amp; march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43520" y="3063960"/>
            <a:ext cx="2157120" cy="580680"/>
          </a:xfrm>
          <a:prstGeom prst="rect">
            <a:avLst/>
          </a:prstGeom>
          <a:solidFill>
            <a:srgbClr val="04547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Arial"/>
              </a:rPr>
              <a:t>Gouvern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Arial"/>
              </a:rPr>
              <a:t>&amp; citoy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7000" y="2200320"/>
            <a:ext cx="2557440" cy="580680"/>
          </a:xfrm>
          <a:prstGeom prst="rect">
            <a:avLst/>
          </a:prstGeom>
          <a:solidFill>
            <a:srgbClr val="04547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Arial"/>
              </a:rPr>
              <a:t>Gouvern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Arial"/>
              </a:rPr>
              <a:t>&amp; secteurs associati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16160" y="1400040"/>
            <a:ext cx="2157120" cy="106740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Arial"/>
              </a:rPr>
              <a:t>él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Arial"/>
              </a:rPr>
              <a:t>(politiqu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Arial"/>
              </a:rPr>
              <a:t>&amp; nomm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Arial"/>
              </a:rPr>
              <a:t>(fonctionnai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70280" y="1376280"/>
            <a:ext cx="2157480" cy="580680"/>
          </a:xfrm>
          <a:prstGeom prst="rect">
            <a:avLst/>
          </a:prstGeom>
          <a:solidFill>
            <a:srgbClr val="04547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Arial"/>
              </a:rPr>
              <a:t>Gouvernements locaux &amp; habi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5320" y="2639880"/>
            <a:ext cx="2157480" cy="337320"/>
          </a:xfrm>
          <a:prstGeom prst="rect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Arial"/>
              </a:rPr>
              <a:t>Législatif &amp; exécut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2800" y="3338640"/>
            <a:ext cx="2157480" cy="82404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Arial"/>
              </a:rPr>
              <a:t>État-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Arial"/>
              </a:rPr>
              <a:t>&amp; instit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Arial"/>
              </a:rPr>
              <a:t>internat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77000" y="4003560"/>
            <a:ext cx="215748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45474"/>
                </a:solidFill>
                <a:latin typeface="Arial"/>
              </a:rPr>
              <a:t>Entrepri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45474"/>
                </a:solidFill>
                <a:latin typeface="Arial"/>
              </a:rPr>
              <a:t>&amp; citoyens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57440" y="573120"/>
            <a:ext cx="215748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45474"/>
                </a:solidFill>
                <a:latin typeface="Arial"/>
              </a:rPr>
              <a:t>Exécutif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45474"/>
                </a:solidFill>
                <a:latin typeface="Arial"/>
              </a:rPr>
              <a:t>judiciaire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60680" y="4621320"/>
            <a:ext cx="215748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45474"/>
                </a:solidFill>
                <a:latin typeface="Arial"/>
              </a:rPr>
              <a:t>Entrepri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45474"/>
                </a:solidFill>
                <a:latin typeface="Arial"/>
              </a:rPr>
              <a:t>&amp; judiciaire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1680" y="4335480"/>
            <a:ext cx="215748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45474"/>
                </a:solidFill>
                <a:latin typeface="Arial"/>
              </a:rPr>
              <a:t>État central et les territoires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63400" y="1038240"/>
            <a:ext cx="7909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Nous entendons par "gouvernance" les traditions et 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institutions au travers desquelles s'exerce l'autor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dans un pays. Cela englob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- le processus par lequel les gouvernants sont choisi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rendus responsables, contrôlés et remplacés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- la capacité des gouvernants à gérer effic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les ressources et à formuler et appliquer de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saines politiques et réglementations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- le respect des citoyens et de l'État pour les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régissant leurs interactions économiques et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so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0" y="0"/>
            <a:ext cx="73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45474"/>
                </a:solidFill>
                <a:latin typeface="Arial"/>
              </a:rPr>
              <a:t>La gouvernance selon la Banque mondiale </a:t>
            </a: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(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95360"/>
            <a:ext cx="742644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3240" y="58658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45474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3800" y="5778360"/>
            <a:ext cx="635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45474"/>
                </a:solidFill>
                <a:latin typeface="Arial"/>
              </a:rPr>
              <a:t>Daniel KAUFMANN, Aart KRAAY, Pablo ZOIDO-LOBATON, 200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815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Le Livre blanc sur la Gouvernance europée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du 25 juillet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La notion de « gouvernance » désigne les règles, </a:t>
            </a: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	</a:t>
            </a: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les processus et les comportements qui influent sur </a:t>
            </a: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	</a:t>
            </a: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l’exercice des pouvoirs au niveau européen, </a:t>
            </a: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	</a:t>
            </a: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particulièrement du point de vue de l’ouverture, de </a:t>
            </a: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	</a:t>
            </a: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la participation, de la responsabilité, de l’efficacité et </a:t>
            </a: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	</a:t>
            </a: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de la cohé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Livre blanc, p. 9 et 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855720"/>
            <a:ext cx="678168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8823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Préconisations du Livre blanc sur la Gouvernance européenne (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1. Une participation et une ouverture renforcées avec les </a:t>
            </a: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collectivités régionales et locales et la société civile et un </a:t>
            </a: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renforcement de l’interaction avec la Commission </a:t>
            </a: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(Cohérence des politiques par intégration de l’incidence </a:t>
            </a: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territoria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2. Un contrôle de qualité (politique, normatif et en termes de </a:t>
            </a: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résulta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3. Un lien avec la gouvernance mondi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4. Un recentrage des politiques et une mise en cohérence </a:t>
            </a: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des institutions (Conseil, Commission, Parlement + </a:t>
            </a: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pour l’UE : identifier plus clairement ses objectifs à </a:t>
            </a: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long term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0" y="819000"/>
            <a:ext cx="7520040" cy="1296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80" y="0"/>
            <a:ext cx="62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45474"/>
                </a:solidFill>
                <a:latin typeface="Arial"/>
              </a:rPr>
              <a:t>Le nouveau paradigme de la gouver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0" y="406080"/>
            <a:ext cx="6173640" cy="126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440" y="689040"/>
            <a:ext cx="3687480" cy="5214600"/>
          </a:xfrm>
          <a:prstGeom prst="rect">
            <a:avLst/>
          </a:prstGeom>
          <a:noFill/>
          <a:ln w="2844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Administration pub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class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Programme / a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Hiérarc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Public vs priv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Command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et contrô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 </a:t>
            </a: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d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09680" y="689040"/>
            <a:ext cx="3652200" cy="5214600"/>
          </a:xfrm>
          <a:prstGeom prst="rect">
            <a:avLst/>
          </a:prstGeom>
          <a:noFill/>
          <a:ln w="2844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Nouvelle Gouvern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Outils cib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Résea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Public + priv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Négociation 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persua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d’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7160" y="6330960"/>
            <a:ext cx="538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45474"/>
                </a:solidFill>
                <a:latin typeface="Arial"/>
              </a:rPr>
              <a:t>Lester M. Salamon, </a:t>
            </a:r>
            <a:r>
              <a:rPr b="1" i="1" lang="fr-BE" sz="1600" spc="-1" strike="noStrike">
                <a:solidFill>
                  <a:srgbClr val="045474"/>
                </a:solidFill>
                <a:latin typeface="Arial"/>
              </a:rPr>
              <a:t>The Tools of Government</a:t>
            </a:r>
            <a:r>
              <a:rPr b="1" lang="fr-BE" sz="1600" spc="-1" strike="noStrike">
                <a:solidFill>
                  <a:srgbClr val="045474"/>
                </a:solidFill>
                <a:latin typeface="Arial"/>
              </a:rPr>
              <a:t>, 2002, 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81360" y="1239840"/>
            <a:ext cx="2068560" cy="716040"/>
          </a:xfrm>
          <a:prstGeom prst="rightArrow">
            <a:avLst>
              <a:gd name="adj1" fmla="val 50000"/>
              <a:gd name="adj2" fmla="val 7222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994120" y="2104920"/>
            <a:ext cx="3119400" cy="303048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60880" y="1290600"/>
            <a:ext cx="3178080" cy="3116160"/>
          </a:xfrm>
          <a:prstGeom prst="ellipse">
            <a:avLst/>
          </a:prstGeom>
          <a:noFill/>
          <a:ln w="3816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7040" y="1282680"/>
            <a:ext cx="3309840" cy="311616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28960" y="2973240"/>
            <a:ext cx="3270240" cy="334188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01960" y="215748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cc0000"/>
                </a:solidFill>
                <a:latin typeface="Arial"/>
              </a:rPr>
              <a:t>L’É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24520" y="1887480"/>
            <a:ext cx="109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45474"/>
                </a:solidFill>
                <a:latin typeface="Arial"/>
              </a:rPr>
              <a:t>La sociétéciv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57680" y="525636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cc99"/>
                </a:solidFill>
                <a:latin typeface="Arial"/>
              </a:rPr>
              <a:t>Le sec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cc99"/>
                </a:solidFill>
                <a:latin typeface="Arial"/>
              </a:rPr>
              <a:t>pri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2600" y="4800240"/>
            <a:ext cx="0" cy="205740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IJD-logo2001" descr=""/>
          <p:cNvPicPr/>
          <p:nvPr/>
        </p:nvPicPr>
        <p:blipFill>
          <a:blip r:embed="rId1"/>
          <a:stretch/>
        </p:blipFill>
        <p:spPr>
          <a:xfrm>
            <a:off x="231840" y="6006960"/>
            <a:ext cx="1617480" cy="712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440" y="0"/>
            <a:ext cx="680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45474"/>
                </a:solidFill>
                <a:latin typeface="Arial"/>
              </a:rPr>
              <a:t>Renforcer l’interaction entre les trois pali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45474"/>
                </a:solidFill>
                <a:latin typeface="Arial"/>
              </a:rPr>
              <a:t>est l’essence même de la bonne gouver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0" y="855720"/>
            <a:ext cx="6753240" cy="14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8520" y="4960800"/>
            <a:ext cx="258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45474"/>
                </a:solidFill>
                <a:latin typeface="Arial"/>
              </a:rPr>
              <a:t>G. Shabbir CHEEM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045474"/>
                </a:solidFill>
                <a:latin typeface="Arial"/>
              </a:rPr>
              <a:t>Politique et gouver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045474"/>
                </a:solidFill>
                <a:latin typeface="Arial"/>
              </a:rPr>
              <a:t>du PNUD</a:t>
            </a:r>
            <a:r>
              <a:rPr b="1" lang="fr-BE" sz="1600" spc="-1" strike="noStrike">
                <a:solidFill>
                  <a:srgbClr val="045474"/>
                </a:solidFill>
                <a:latin typeface="Arial"/>
              </a:rPr>
              <a:t>, 200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5562720" y="4071600"/>
            <a:ext cx="1069920" cy="6318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00760" y="4218120"/>
            <a:ext cx="177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enjeu fort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045474"/>
                </a:solidFill>
                <a:latin typeface="Arial"/>
              </a:rPr>
              <a:t>la capac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045474"/>
                </a:solidFill>
                <a:latin typeface="Arial"/>
              </a:rPr>
              <a:t>des ac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045474"/>
                </a:solidFill>
                <a:latin typeface="Arial"/>
              </a:rPr>
              <a:t>qui travail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045474"/>
                </a:solidFill>
                <a:latin typeface="Arial"/>
              </a:rPr>
              <a:t>à la rencon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045474"/>
                </a:solidFill>
                <a:latin typeface="Arial"/>
              </a:rPr>
              <a:t>des trois pa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994120" y="2104920"/>
            <a:ext cx="3119400" cy="303048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60880" y="1290600"/>
            <a:ext cx="3178080" cy="3116160"/>
          </a:xfrm>
          <a:prstGeom prst="ellipse">
            <a:avLst/>
          </a:prstGeom>
          <a:noFill/>
          <a:ln w="3816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97040" y="1282680"/>
            <a:ext cx="3309840" cy="311616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28960" y="2973240"/>
            <a:ext cx="3270240" cy="334188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01960" y="215748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cc0000"/>
                </a:solidFill>
                <a:latin typeface="Arial"/>
              </a:rPr>
              <a:t>L’É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35720" y="1511280"/>
            <a:ext cx="109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45474"/>
                </a:solidFill>
                <a:latin typeface="Arial"/>
              </a:rPr>
              <a:t>La sociétéciv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57680" y="525636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cc99"/>
                </a:solidFill>
                <a:latin typeface="Arial"/>
              </a:rPr>
              <a:t>Le sec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cc99"/>
                </a:solidFill>
                <a:latin typeface="Arial"/>
              </a:rPr>
              <a:t>pri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2600" y="4800240"/>
            <a:ext cx="0" cy="205740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IJD-logo2001" descr=""/>
          <p:cNvPicPr/>
          <p:nvPr/>
        </p:nvPicPr>
        <p:blipFill>
          <a:blip r:embed="rId1"/>
          <a:stretch/>
        </p:blipFill>
        <p:spPr>
          <a:xfrm>
            <a:off x="231840" y="6006960"/>
            <a:ext cx="1617480" cy="712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440" y="0"/>
            <a:ext cx="680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45474"/>
                </a:solidFill>
                <a:latin typeface="Arial"/>
              </a:rPr>
              <a:t>Renforcer l’interaction entre les trois pali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45474"/>
                </a:solidFill>
                <a:latin typeface="Arial"/>
              </a:rPr>
              <a:t>est l’essence même de la bonne gouver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0" y="855720"/>
            <a:ext cx="6753240" cy="14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8520" y="4960800"/>
            <a:ext cx="258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45474"/>
                </a:solidFill>
                <a:latin typeface="Arial"/>
              </a:rPr>
              <a:t>G. Shabbir CHEEM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045474"/>
                </a:solidFill>
                <a:latin typeface="Arial"/>
              </a:rPr>
              <a:t>Politique et gouver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045474"/>
                </a:solidFill>
                <a:latin typeface="Arial"/>
              </a:rPr>
              <a:t>du PNUD</a:t>
            </a:r>
            <a:r>
              <a:rPr b="1" lang="fr-BE" sz="1600" spc="-1" strike="noStrike">
                <a:solidFill>
                  <a:srgbClr val="045474"/>
                </a:solidFill>
                <a:latin typeface="Arial"/>
              </a:rPr>
              <a:t>, 200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5562720" y="4071600"/>
            <a:ext cx="1069920" cy="6318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00760" y="4218120"/>
            <a:ext cx="177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enjeu fort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045474"/>
                </a:solidFill>
                <a:latin typeface="Arial"/>
              </a:rPr>
              <a:t>la capac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045474"/>
                </a:solidFill>
                <a:latin typeface="Arial"/>
              </a:rPr>
              <a:t>des ac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045474"/>
                </a:solidFill>
                <a:latin typeface="Arial"/>
              </a:rPr>
              <a:t>qui travail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045474"/>
                </a:solidFill>
                <a:latin typeface="Arial"/>
              </a:rPr>
              <a:t>à la rencon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045474"/>
                </a:solidFill>
                <a:latin typeface="Arial"/>
              </a:rPr>
              <a:t>des trois pa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09480" y="722160"/>
            <a:ext cx="1925640" cy="3020040"/>
          </a:xfrm>
          <a:prstGeom prst="rect">
            <a:avLst/>
          </a:prstGeom>
          <a:solidFill>
            <a:srgbClr val="045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Quest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ffffff"/>
                </a:solidFill>
                <a:latin typeface="Arial"/>
              </a:rPr>
              <a:t>comment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ffffff"/>
                </a:solidFill>
                <a:latin typeface="Arial"/>
              </a:rPr>
              <a:t>pro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ffffff"/>
                </a:solidFill>
                <a:latin typeface="Arial"/>
              </a:rPr>
              <a:t>territor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ffffff"/>
                </a:solidFill>
                <a:latin typeface="Arial"/>
              </a:rPr>
              <a:t>peut-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ffffff"/>
                </a:solidFill>
                <a:latin typeface="Arial"/>
              </a:rPr>
              <a:t>répond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ffffff"/>
                </a:solidFill>
                <a:latin typeface="Arial"/>
              </a:rPr>
              <a:t>à cet enjeu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003400" y="2817720"/>
            <a:ext cx="6545160" cy="111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60240" y="1486080"/>
            <a:ext cx="728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45474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Voir dans quelle mesure la pro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territoriale peut répondre à l’enjeu d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« Nouvelle Gouvernance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760" y="814320"/>
            <a:ext cx="9178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Comment la prospective peut nourrir la gouvernanc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454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une définition de la pro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454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créer des lieux d’interactions et d’élaboration de la gouver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454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positionner la prospective dans les paliers de la gouver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454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la prospective wallonne dans la gouver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454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l’apport de Wallonie 2020 à la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454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l’apport de la Mission Prospective Wallonie 21 à la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454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l’apport de la prospective des politiques d’entreprises à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454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454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les apports de la prospective à la gouver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0760" y="1263240"/>
            <a:ext cx="7737480" cy="270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906560" y="1147680"/>
            <a:ext cx="4998960" cy="5214600"/>
          </a:xfrm>
          <a:prstGeom prst="rect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cc0000"/>
                </a:solidFill>
                <a:latin typeface="Arial"/>
              </a:rPr>
              <a:t>La prospective</a:t>
            </a:r>
            <a:r>
              <a:rPr b="1" i="1" lang="fr-BE" sz="2400" spc="-1" strike="noStrike">
                <a:solidFill>
                  <a:srgbClr val="045474"/>
                </a:solidFill>
                <a:latin typeface="Arial"/>
              </a:rPr>
              <a:t> est une démarche indépendante, dialectique et rigoureus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45474"/>
                </a:solidFill>
                <a:latin typeface="Arial"/>
              </a:rPr>
              <a:t>menée de manière transdisciplinaire et colle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45474"/>
                </a:solidFill>
                <a:latin typeface="Arial"/>
              </a:rPr>
              <a:t>Elle est destinée à éclairer les questions du présent et de l'avenir, d'une part en les considérant dans leur cadre systémique et complexe et, d'autre part, en les inscriva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45474"/>
                </a:solidFill>
                <a:latin typeface="Arial"/>
              </a:rPr>
              <a:t>dans la temporalit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45474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458640" y="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Une définition de la pro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0" y="449280"/>
            <a:ext cx="4716360" cy="144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72880" y="336600"/>
            <a:ext cx="8712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45474"/>
                </a:solidFill>
                <a:latin typeface="Arial"/>
              </a:rPr>
              <a:t>Le mot </a:t>
            </a: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gouvernance</a:t>
            </a:r>
            <a:r>
              <a:rPr b="1" i="1" lang="fr-BE" sz="2400" spc="-1" strike="noStrike">
                <a:solidFill>
                  <a:srgbClr val="045474"/>
                </a:solidFill>
                <a:latin typeface="Arial"/>
              </a:rPr>
              <a:t> n’est pas fait pour se substituer au mot </a:t>
            </a: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gouvernement</a:t>
            </a:r>
            <a:r>
              <a:rPr b="1" i="1" lang="fr-BE" sz="2400" spc="-1" strike="noStrike">
                <a:solidFill>
                  <a:srgbClr val="045474"/>
                </a:solidFill>
                <a:latin typeface="Arial"/>
              </a:rPr>
              <a:t>. Il désigne l’art de gouverner, tandis que </a:t>
            </a: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gouvernement</a:t>
            </a:r>
            <a:r>
              <a:rPr b="1" i="1" lang="fr-BE" sz="2400" spc="-1" strike="noStrike">
                <a:solidFill>
                  <a:srgbClr val="045474"/>
                </a:solidFill>
                <a:latin typeface="Arial"/>
              </a:rPr>
              <a:t> se réfère aux instit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Jean-Pierre Raffari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Pour une Nouvelle Gouvernance, 2002</a:t>
            </a: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45474"/>
                </a:solidFill>
                <a:latin typeface="Arial"/>
              </a:rPr>
              <a:t>La gouvernance est un nouveau corporatisme mussolini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Att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45474"/>
                </a:solidFill>
                <a:latin typeface="Arial"/>
              </a:rPr>
              <a:t>Le gouvernement est une usine à gaz dont on ne possède pas toutes les clef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Laurent Ruquier, </a:t>
            </a: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Europe 1</a:t>
            </a: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, 16.09.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45474"/>
                </a:solidFill>
                <a:latin typeface="Arial"/>
              </a:rPr>
              <a:t>La prospective pourrait être le mot français pour le concept anglo-saxon de « governance 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Jean-François Stev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041560" y="1054080"/>
            <a:ext cx="5261040" cy="52452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1360" y="-127080"/>
            <a:ext cx="20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-1800" y="0"/>
            <a:ext cx="92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Créer des lieux d’interactions et d’élaboration de gouver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0" y="453600"/>
            <a:ext cx="9144000" cy="18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68320" y="2124000"/>
            <a:ext cx="2184840" cy="1191240"/>
          </a:xfrm>
          <a:prstGeom prst="rect">
            <a:avLst/>
          </a:prstGeom>
          <a:noFill/>
          <a:ln w="3816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Socié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wallon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de l’É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et de la Prosp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97200" y="2141640"/>
            <a:ext cx="1118160" cy="1191240"/>
          </a:xfrm>
          <a:prstGeom prst="rect">
            <a:avLst/>
          </a:prstGeom>
          <a:noFill/>
          <a:ln w="3816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Contr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d’Aven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pour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 </a:t>
            </a: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Wallo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53880" y="4898880"/>
            <a:ext cx="2324880" cy="368280"/>
          </a:xfrm>
          <a:prstGeom prst="rect">
            <a:avLst/>
          </a:prstGeom>
          <a:noFill/>
          <a:ln w="3816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Institut Jules-Destr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29840" y="3697200"/>
            <a:ext cx="2081160" cy="916920"/>
          </a:xfrm>
          <a:prstGeom prst="rect">
            <a:avLst/>
          </a:prstGeom>
          <a:noFill/>
          <a:ln w="3816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Club Gouver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du 4 X 4 p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Entreprend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34600" y="3594240"/>
            <a:ext cx="2081160" cy="642600"/>
          </a:xfrm>
          <a:prstGeom prst="rect">
            <a:avLst/>
          </a:prstGeom>
          <a:noFill/>
          <a:ln w="3816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Mouvement wall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pour la Qual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81440" y="5600880"/>
            <a:ext cx="549360" cy="368280"/>
          </a:xfrm>
          <a:prstGeom prst="rect">
            <a:avLst/>
          </a:prstGeom>
          <a:noFill/>
          <a:ln w="3816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48720" y="1432080"/>
            <a:ext cx="814680" cy="368280"/>
          </a:xfrm>
          <a:prstGeom prst="rect">
            <a:avLst/>
          </a:prstGeom>
          <a:noFill/>
          <a:ln w="3816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S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541520" y="666720"/>
            <a:ext cx="5261040" cy="52452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Mission-Prosp-Wallonie21_logo" descr=""/>
          <p:cNvPicPr/>
          <p:nvPr/>
        </p:nvPicPr>
        <p:blipFill>
          <a:blip r:embed="rId1"/>
          <a:stretch/>
        </p:blipFill>
        <p:spPr>
          <a:xfrm>
            <a:off x="184320" y="763560"/>
            <a:ext cx="3835080" cy="1930320"/>
          </a:xfrm>
          <a:prstGeom prst="rect">
            <a:avLst/>
          </a:prstGeom>
          <a:ln w="28440">
            <a:solidFill>
              <a:srgbClr val="045474"/>
            </a:solidFill>
            <a:miter/>
          </a:ln>
        </p:spPr>
      </p:pic>
      <p:pic>
        <p:nvPicPr>
          <p:cNvPr id="174" name="2020ecran" descr=""/>
          <p:cNvPicPr/>
          <p:nvPr/>
        </p:nvPicPr>
        <p:blipFill>
          <a:blip r:embed="rId2"/>
          <a:stretch/>
        </p:blipFill>
        <p:spPr>
          <a:xfrm>
            <a:off x="4562640" y="727200"/>
            <a:ext cx="3504960" cy="2020680"/>
          </a:xfrm>
          <a:prstGeom prst="rect">
            <a:avLst/>
          </a:prstGeom>
          <a:ln w="19080">
            <a:solidFill>
              <a:srgbClr val="045474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394000" y="4226040"/>
            <a:ext cx="3889440" cy="16444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189320" y="436716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cc00"/>
                </a:solidFill>
                <a:latin typeface="Arial"/>
              </a:rPr>
              <a:t>ProspEnW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-1440" y="-1440"/>
            <a:ext cx="91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Positionner la prospective dans les paliers de la gouver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68360"/>
            <a:ext cx="9023400" cy="111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8880200">
            <a:off x="3579840" y="2673000"/>
            <a:ext cx="1214280" cy="1214280"/>
          </a:xfrm>
          <a:custGeom>
            <a:avLst/>
            <a:gdLst>
              <a:gd name="textAreaLeft" fmla="*/ 0 w 1214280"/>
              <a:gd name="textAreaRight" fmla="*/ 1214640 w 1214280"/>
              <a:gd name="textAreaTop" fmla="*/ 0 h 1214280"/>
              <a:gd name="textAreaBottom" fmla="*/ 121464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754280" y="554040"/>
            <a:ext cx="5261040" cy="52452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7853000">
            <a:off x="1098360" y="1093680"/>
            <a:ext cx="3841920" cy="2793960"/>
          </a:xfrm>
          <a:prstGeom prst="downArrowCallout">
            <a:avLst>
              <a:gd name="adj1" fmla="val 34380"/>
              <a:gd name="adj2" fmla="val 34377"/>
              <a:gd name="adj3" fmla="val 16667"/>
              <a:gd name="adj4" fmla="val 66667"/>
            </a:avLst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Travaux de pro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exploratoire pour asse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une vision straté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impliquant les ac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3800">
            <a:off x="2560320" y="3521160"/>
            <a:ext cx="3814560" cy="2716200"/>
          </a:xfrm>
          <a:prstGeom prst="upArrowCallout">
            <a:avLst>
              <a:gd name="adj1" fmla="val 35113"/>
              <a:gd name="adj2" fmla="val 35109"/>
              <a:gd name="adj3" fmla="val 16667"/>
              <a:gd name="adj4" fmla="val 66660"/>
            </a:avLst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Exercice de pro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normative, assoc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chefs d’entrepris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experts 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décideurs publ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3550200">
            <a:off x="3870000" y="1007640"/>
            <a:ext cx="3841560" cy="2793960"/>
          </a:xfrm>
          <a:prstGeom prst="downArrowCallout">
            <a:avLst>
              <a:gd name="adj1" fmla="val 34377"/>
              <a:gd name="adj2" fmla="val 34374"/>
              <a:gd name="adj3" fmla="val 16667"/>
              <a:gd name="adj4" fmla="val 66667"/>
            </a:avLst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Exercice de pro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normative, citoye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et délibérative au dé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des ac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5360" y="187020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cc0000"/>
                </a:solidFill>
                <a:latin typeface="Arial"/>
              </a:rPr>
              <a:t>L’É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89720" y="909720"/>
            <a:ext cx="146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La socié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civ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4440" y="5456160"/>
            <a:ext cx="179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cc99"/>
                </a:solidFill>
                <a:latin typeface="Arial"/>
              </a:rPr>
              <a:t>Le sec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cc99"/>
                </a:solidFill>
                <a:latin typeface="Arial"/>
              </a:rPr>
              <a:t>priv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60" y="0"/>
            <a:ext cx="233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La pro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dans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gouver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wallo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0" y="1554120"/>
            <a:ext cx="1666800" cy="144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406880" y="1938240"/>
            <a:ext cx="73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L’apport de Wallonie 2020 à la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des rapports gouvernance / pro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016000" y="2957040"/>
            <a:ext cx="6207120" cy="18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1360" y="2216160"/>
            <a:ext cx="8794800" cy="3124080"/>
          </a:xfrm>
          <a:custGeom>
            <a:avLst/>
            <a:gdLst>
              <a:gd name="textAreaLeft" fmla="*/ 0 w 8794800"/>
              <a:gd name="textAreaRight" fmla="*/ 8795160 w 8794800"/>
              <a:gd name="textAreaTop" fmla="*/ 0 h 3124080"/>
              <a:gd name="textAreaBottom" fmla="*/ 312444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454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22560" y="2009880"/>
            <a:ext cx="1898640" cy="4114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45474"/>
                </a:solidFill>
                <a:latin typeface="Arial"/>
              </a:rPr>
              <a:t>réun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45474"/>
                </a:solidFill>
                <a:latin typeface="Arial"/>
              </a:rPr>
              <a:t>de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45474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45474"/>
                </a:solidFill>
                <a:latin typeface="Arial"/>
              </a:rPr>
              <a:t>réunio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45474"/>
                </a:solidFill>
                <a:latin typeface="Arial"/>
              </a:rPr>
              <a:t>vali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45474"/>
                </a:solidFill>
                <a:latin typeface="Arial"/>
              </a:rPr>
              <a:t>du ra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2880" y="2292480"/>
            <a:ext cx="6858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1040" y="2558880"/>
            <a:ext cx="6858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2984400"/>
            <a:ext cx="6858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3714840"/>
            <a:ext cx="6858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5680" y="4489560"/>
            <a:ext cx="6858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4760" y="4737240"/>
            <a:ext cx="6858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8280" y="4210200"/>
            <a:ext cx="6858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9200" y="4832280"/>
            <a:ext cx="6858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4760" y="3454560"/>
            <a:ext cx="6858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3975120"/>
            <a:ext cx="6858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7520" y="2768760"/>
            <a:ext cx="6858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3289320"/>
            <a:ext cx="6858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57280" y="861840"/>
            <a:ext cx="1127160" cy="916920"/>
          </a:xfrm>
          <a:prstGeom prst="rect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Défin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enje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2020logo3" descr=""/>
          <p:cNvPicPr/>
          <p:nvPr/>
        </p:nvPicPr>
        <p:blipFill>
          <a:blip r:embed="rId1"/>
          <a:stretch/>
        </p:blipFill>
        <p:spPr>
          <a:xfrm>
            <a:off x="6856560" y="2867040"/>
            <a:ext cx="1771560" cy="16700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4915080" y="1955880"/>
            <a:ext cx="1676160" cy="4165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Arial"/>
              </a:rPr>
              <a:t>réun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Arial"/>
              </a:rPr>
              <a:t>de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Arial"/>
              </a:rPr>
              <a:t>réunio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Arial"/>
              </a:rPr>
              <a:t>validation 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Arial"/>
              </a:rPr>
              <a:t>ra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38240" y="861840"/>
            <a:ext cx="1883160" cy="916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45474"/>
                </a:solidFill>
                <a:latin typeface="Arial"/>
              </a:rPr>
              <a:t>Identifier 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45474"/>
                </a:solidFill>
                <a:latin typeface="Arial"/>
              </a:rPr>
              <a:t> </a:t>
            </a:r>
            <a:r>
              <a:rPr b="1" lang="fr-BE" sz="1800" spc="-1" strike="noStrike">
                <a:solidFill>
                  <a:srgbClr val="045474"/>
                </a:solidFill>
                <a:latin typeface="Arial"/>
              </a:rPr>
              <a:t>souhai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45474"/>
                </a:solidFill>
                <a:latin typeface="Arial"/>
              </a:rPr>
              <a:t>et les pos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5840" y="861840"/>
            <a:ext cx="1538640" cy="916920"/>
          </a:xfrm>
          <a:prstGeom prst="rect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Propo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des a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stratég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684120" y="887400"/>
            <a:ext cx="2148120" cy="916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45474"/>
                </a:solidFill>
                <a:latin typeface="Arial"/>
              </a:rPr>
              <a:t>Faire 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45474"/>
                </a:solidFill>
                <a:latin typeface="Arial"/>
              </a:rPr>
              <a:t>recommand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45474"/>
                </a:solidFill>
                <a:latin typeface="Arial"/>
              </a:rPr>
              <a:t>commu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057400" y="6538680"/>
            <a:ext cx="5175360" cy="27000"/>
          </a:xfrm>
          <a:prstGeom prst="line">
            <a:avLst/>
          </a:prstGeom>
          <a:ln w="76320">
            <a:solidFill>
              <a:srgbClr val="0454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26000" y="6081840"/>
            <a:ext cx="164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45474"/>
                </a:solidFill>
                <a:latin typeface="Arial"/>
              </a:rPr>
              <a:t>Janvier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40320" y="593100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45474"/>
                </a:solidFill>
                <a:latin typeface="Arial"/>
              </a:rPr>
              <a:t>Octobre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67280" y="4799160"/>
            <a:ext cx="114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9900"/>
                </a:solidFill>
                <a:latin typeface="Arial"/>
              </a:rPr>
              <a:t>Congrè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-1440" y="0"/>
            <a:ext cx="66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L’organisation de la démarche </a:t>
            </a:r>
            <a:r>
              <a:rPr b="1" i="1" lang="fr-BE" sz="2400" spc="-1" strike="noStrike">
                <a:solidFill>
                  <a:srgbClr val="045474"/>
                </a:solidFill>
                <a:latin typeface="Arial"/>
              </a:rPr>
              <a:t>Wallonie 20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69800"/>
            <a:ext cx="6616800" cy="129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IJD-logo2001" descr=""/>
          <p:cNvPicPr/>
          <p:nvPr/>
        </p:nvPicPr>
        <p:blipFill>
          <a:blip r:embed="rId2"/>
          <a:stretch/>
        </p:blipFill>
        <p:spPr>
          <a:xfrm>
            <a:off x="212760" y="5896080"/>
            <a:ext cx="1617480" cy="712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104840" y="1946160"/>
            <a:ext cx="1835280" cy="4114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Arial"/>
              </a:rPr>
              <a:t>réun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Arial"/>
              </a:rPr>
              <a:t>de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Arial"/>
              </a:rPr>
              <a:t>réunio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Arial"/>
              </a:rPr>
              <a:t>vali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Arial"/>
              </a:rPr>
              <a:t>du ra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395280"/>
            <a:ext cx="751536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-8280" y="0"/>
            <a:ext cx="739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45474"/>
                </a:solidFill>
                <a:latin typeface="Arial"/>
              </a:rPr>
              <a:t>Wallonie 2020 : la gouvernance comme premier vecteur f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8200" y="939960"/>
            <a:ext cx="3114720" cy="4622760"/>
          </a:xfrm>
          <a:prstGeom prst="triangle">
            <a:avLst>
              <a:gd name="adj" fmla="val 50000"/>
            </a:avLst>
          </a:prstGeom>
          <a:solidFill>
            <a:srgbClr val="045474"/>
          </a:solidFill>
          <a:ln w="936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85960" y="4440240"/>
            <a:ext cx="249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gouver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17040" y="925560"/>
            <a:ext cx="5534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000000"/>
                </a:solidFill>
                <a:latin typeface="Arial"/>
              </a:rPr>
              <a:t>une gouvernance soucieuse de l’intérêt géné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000000"/>
                </a:solidFill>
                <a:latin typeface="Arial"/>
              </a:rPr>
              <a:t>une responsabilisation du citoy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000000"/>
                </a:solidFill>
                <a:latin typeface="Arial"/>
              </a:rPr>
              <a:t>une réactivation de la culture poli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000000"/>
                </a:solidFill>
                <a:latin typeface="Arial"/>
              </a:rPr>
              <a:t>un nouvel exercice de la démocr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000000"/>
                </a:solidFill>
                <a:latin typeface="Arial"/>
              </a:rPr>
              <a:t>une relation constructive entre pouvoirs publ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BE" sz="2000" spc="-1" strike="noStrike">
                <a:solidFill>
                  <a:srgbClr val="000000"/>
                </a:solidFill>
                <a:latin typeface="Arial"/>
              </a:rPr>
              <a:t>et société civ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000000"/>
                </a:solidFill>
                <a:latin typeface="Arial"/>
              </a:rPr>
              <a:t>une contractualisation cré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000000"/>
                </a:solidFill>
                <a:latin typeface="Arial"/>
              </a:rPr>
              <a:t>une mobilisation des ressources coll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67120" y="3911760"/>
            <a:ext cx="3905280" cy="2527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45474"/>
                </a:solidFill>
                <a:latin typeface="Arial"/>
              </a:rPr>
              <a:t>La gouvernance est le processus selon lequel une organisation ou une société se conduit elle-même, à partir de ses acteurs. Dès lors, les dynamiques de communication et de contrôle démocratique sont centraux dans le processus au profit d’un dialogue renouvel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45474"/>
                </a:solidFill>
                <a:latin typeface="Arial"/>
              </a:rPr>
              <a:t>d’après</a:t>
            </a:r>
            <a:r>
              <a:rPr b="0" i="1" lang="fr-BE" sz="1600" spc="-1" strike="noStrike">
                <a:solidFill>
                  <a:srgbClr val="045474"/>
                </a:solidFill>
                <a:latin typeface="Arial"/>
              </a:rPr>
              <a:t> Steven Rosell &amp; James Rosen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2020titre" descr=""/>
          <p:cNvPicPr/>
          <p:nvPr/>
        </p:nvPicPr>
        <p:blipFill>
          <a:blip r:embed="rId1"/>
          <a:stretch/>
        </p:blipFill>
        <p:spPr>
          <a:xfrm>
            <a:off x="0" y="6270480"/>
            <a:ext cx="1978200" cy="581040"/>
          </a:xfrm>
          <a:prstGeom prst="rect">
            <a:avLst/>
          </a:prstGeom>
          <a:ln w="0">
            <a:noFill/>
          </a:ln>
        </p:spPr>
      </p:pic>
      <p:pic>
        <p:nvPicPr>
          <p:cNvPr id="226" name="WAFLOGO" descr=""/>
          <p:cNvPicPr/>
          <p:nvPr/>
        </p:nvPicPr>
        <p:blipFill>
          <a:blip r:embed="rId2"/>
          <a:stretch/>
        </p:blipFill>
        <p:spPr>
          <a:xfrm>
            <a:off x="7827840" y="5884920"/>
            <a:ext cx="13161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21744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45474"/>
                </a:solidFill>
                <a:latin typeface="Arial"/>
              </a:rPr>
              <a:t>Nœud de futur n°2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045474"/>
                </a:solidFill>
                <a:latin typeface="Arial"/>
              </a:rPr>
              <a:t>Ajustement des sphères publ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282680"/>
            <a:ext cx="64674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49600" y="2513160"/>
            <a:ext cx="65498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000000"/>
                </a:solidFill>
                <a:latin typeface="Arial"/>
              </a:rPr>
              <a:t>degré élevé d’inertie de la Wallo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000000"/>
                </a:solidFill>
                <a:latin typeface="Arial"/>
              </a:rPr>
              <a:t>manque d’anticipation de l’évolution du systè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000000"/>
                </a:solidFill>
                <a:latin typeface="Arial"/>
              </a:rPr>
              <a:t>manque de mise en mouvement des ro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000000"/>
                </a:solidFill>
                <a:latin typeface="Arial"/>
              </a:rPr>
              <a:t>culture du réflexe durci et inadéqu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000000"/>
                </a:solidFill>
                <a:latin typeface="Arial"/>
              </a:rPr>
              <a:t>la Wallonie n’a pas de leader et est dotée de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BE" sz="2000" spc="-1" strike="noStrike">
                <a:solidFill>
                  <a:srgbClr val="000000"/>
                </a:solidFill>
                <a:latin typeface="Arial"/>
              </a:rPr>
              <a:t>anti-leader (sous-régionalisme, piliers, </a:t>
            </a:r>
            <a:r>
              <a:rPr b="0" i="1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BE" sz="2000" spc="-1" strike="noStrike">
                <a:solidFill>
                  <a:srgbClr val="000000"/>
                </a:solidFill>
                <a:latin typeface="Arial"/>
              </a:rPr>
              <a:t>complexité institutionnelle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000000"/>
                </a:solidFill>
                <a:latin typeface="Arial"/>
              </a:rPr>
              <a:t>absence d’une citoyenneté wallonne pos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000000"/>
                </a:solidFill>
                <a:latin typeface="Arial"/>
              </a:rPr>
              <a:t>lourdeurs politico-administratives et cloison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000000"/>
                </a:solidFill>
                <a:latin typeface="Arial"/>
              </a:rPr>
              <a:t>système féodal, clientélis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000000"/>
                </a:solidFill>
                <a:latin typeface="Arial"/>
              </a:rPr>
              <a:t>dispersion des responsabi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6805440" y="0"/>
            <a:ext cx="2338560" cy="1714680"/>
            <a:chOff x="6805440" y="0"/>
            <a:chExt cx="2338560" cy="1714680"/>
          </a:xfrm>
        </p:grpSpPr>
        <p:pic>
          <p:nvPicPr>
            <p:cNvPr id="231" name="MOLECULE" descr=""/>
            <p:cNvPicPr/>
            <p:nvPr/>
          </p:nvPicPr>
          <p:blipFill>
            <a:blip r:embed="rId1"/>
            <a:stretch/>
          </p:blipFill>
          <p:spPr>
            <a:xfrm>
              <a:off x="6805440" y="0"/>
              <a:ext cx="233856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 txBox="1"/>
            <p:nvPr/>
          </p:nvSpPr>
          <p:spPr>
            <a:xfrm>
              <a:off x="6805440" y="0"/>
              <a:ext cx="2338560" cy="171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-11160" y="1357200"/>
            <a:ext cx="847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45474"/>
                </a:solidFill>
                <a:latin typeface="Arial"/>
              </a:rPr>
              <a:t>Comment ajuster les institutions et les opérateurs publ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45474"/>
                </a:solidFill>
                <a:latin typeface="Arial"/>
              </a:rPr>
              <a:t>pour que, dans une société en transition où l’individu est en chang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45474"/>
                </a:solidFill>
                <a:latin typeface="Arial"/>
              </a:rPr>
              <a:t>accéléré, l’État constitue une autorité collective audacieuse et reconnu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2020titre" descr=""/>
          <p:cNvPicPr/>
          <p:nvPr/>
        </p:nvPicPr>
        <p:blipFill>
          <a:blip r:embed="rId2"/>
          <a:stretch/>
        </p:blipFill>
        <p:spPr>
          <a:xfrm>
            <a:off x="0" y="6270480"/>
            <a:ext cx="1978200" cy="581040"/>
          </a:xfrm>
          <a:prstGeom prst="rect">
            <a:avLst/>
          </a:prstGeom>
          <a:ln w="0">
            <a:noFill/>
          </a:ln>
        </p:spPr>
      </p:pic>
      <p:pic>
        <p:nvPicPr>
          <p:cNvPr id="235" name="WAFLOGO" descr=""/>
          <p:cNvPicPr/>
          <p:nvPr/>
        </p:nvPicPr>
        <p:blipFill>
          <a:blip r:embed="rId3"/>
          <a:stretch/>
        </p:blipFill>
        <p:spPr>
          <a:xfrm>
            <a:off x="7666200" y="5880240"/>
            <a:ext cx="131580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401120" y="1938240"/>
            <a:ext cx="787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L’apport de la Mission prospective Wallonie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à la question des rapports entr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gouvernance et la pro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900080" y="3279240"/>
            <a:ext cx="6799320" cy="18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341360" y="1779480"/>
            <a:ext cx="4056120" cy="3706920"/>
          </a:xfrm>
          <a:prstGeom prst="ellipse">
            <a:avLst/>
          </a:prstGeom>
          <a:solidFill>
            <a:srgbClr val="04547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1670040" y="2573280"/>
            <a:ext cx="3330720" cy="207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19280" y="2548080"/>
            <a:ext cx="3394080" cy="2103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-863640" y="0"/>
            <a:ext cx="4248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66920" y="357120"/>
            <a:ext cx="6637320" cy="126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4600" y="851040"/>
            <a:ext cx="2968560" cy="398880"/>
          </a:xfrm>
          <a:prstGeom prst="rect">
            <a:avLst/>
          </a:prstGeom>
          <a:solidFill>
            <a:srgbClr val="045474"/>
          </a:solidFill>
          <a:ln w="2844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Le changement glob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54480" y="851040"/>
            <a:ext cx="3105000" cy="398880"/>
          </a:xfrm>
          <a:prstGeom prst="rect">
            <a:avLst/>
          </a:prstGeom>
          <a:solidFill>
            <a:srgbClr val="045474"/>
          </a:solidFill>
          <a:ln w="2844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Le changement territo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70520" y="1535040"/>
            <a:ext cx="1971720" cy="434880"/>
          </a:xfrm>
          <a:prstGeom prst="rect">
            <a:avLst/>
          </a:prstGeom>
          <a:solidFill>
            <a:srgbClr val="b2b2b2"/>
          </a:solidFill>
          <a:ln w="3816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73760" y="2095560"/>
            <a:ext cx="1984320" cy="434880"/>
          </a:xfrm>
          <a:prstGeom prst="rect">
            <a:avLst/>
          </a:prstGeom>
          <a:solidFill>
            <a:srgbClr val="b2b2b2"/>
          </a:solidFill>
          <a:ln w="3816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616800" y="679320"/>
            <a:ext cx="2352600" cy="642600"/>
          </a:xfrm>
          <a:prstGeom prst="rect">
            <a:avLst/>
          </a:prstGeom>
          <a:solidFill>
            <a:srgbClr val="045474"/>
          </a:solidFill>
          <a:ln w="3816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Acteurs &amp; fac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territori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4080" y="6004080"/>
            <a:ext cx="235260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Acteurs &amp; facteu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europé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97360" y="6207120"/>
            <a:ext cx="1984320" cy="434880"/>
          </a:xfrm>
          <a:prstGeom prst="rect">
            <a:avLst/>
          </a:prstGeom>
          <a:solidFill>
            <a:srgbClr val="b2b2b2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81280" y="6208560"/>
            <a:ext cx="1984320" cy="435240"/>
          </a:xfrm>
          <a:prstGeom prst="rect">
            <a:avLst/>
          </a:prstGeom>
          <a:solidFill>
            <a:srgbClr val="b2b2b2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Mission-Prosp-Wallonie21_logo-3" descr=""/>
          <p:cNvPicPr/>
          <p:nvPr/>
        </p:nvPicPr>
        <p:blipFill>
          <a:blip r:embed="rId1"/>
          <a:stretch/>
        </p:blipFill>
        <p:spPr>
          <a:xfrm>
            <a:off x="0" y="0"/>
            <a:ext cx="1406520" cy="685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157560" y="3621240"/>
            <a:ext cx="350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06600" y="5829480"/>
            <a:ext cx="685800" cy="376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88120" y="5805360"/>
            <a:ext cx="685800" cy="376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16680" y="6197760"/>
            <a:ext cx="1984320" cy="434880"/>
          </a:xfrm>
          <a:prstGeom prst="rect">
            <a:avLst/>
          </a:prstGeom>
          <a:solidFill>
            <a:srgbClr val="b2b2b2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6159800">
            <a:off x="3242160" y="1229040"/>
            <a:ext cx="211320" cy="450720"/>
          </a:xfrm>
          <a:prstGeom prst="downArrow">
            <a:avLst>
              <a:gd name="adj1" fmla="val 50000"/>
              <a:gd name="adj2" fmla="val 53322"/>
            </a:avLst>
          </a:prstGeom>
          <a:solidFill>
            <a:srgbClr val="045474"/>
          </a:solidFill>
          <a:ln w="936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19708800">
            <a:off x="5262480" y="2643120"/>
            <a:ext cx="211320" cy="451080"/>
          </a:xfrm>
          <a:prstGeom prst="downArrow">
            <a:avLst>
              <a:gd name="adj1" fmla="val 50000"/>
              <a:gd name="adj2" fmla="val 53365"/>
            </a:avLst>
          </a:prstGeom>
          <a:solidFill>
            <a:srgbClr val="045474"/>
          </a:solidFill>
          <a:ln w="936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2015400">
            <a:off x="5248080" y="4158720"/>
            <a:ext cx="210960" cy="451080"/>
          </a:xfrm>
          <a:prstGeom prst="downArrow">
            <a:avLst>
              <a:gd name="adj1" fmla="val 50000"/>
              <a:gd name="adj2" fmla="val 53456"/>
            </a:avLst>
          </a:prstGeom>
          <a:solidFill>
            <a:srgbClr val="045474"/>
          </a:solidFill>
          <a:ln w="936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5359800">
            <a:off x="3229560" y="5495040"/>
            <a:ext cx="211320" cy="450720"/>
          </a:xfrm>
          <a:prstGeom prst="downArrow">
            <a:avLst>
              <a:gd name="adj1" fmla="val 50000"/>
              <a:gd name="adj2" fmla="val 53322"/>
            </a:avLst>
          </a:prstGeom>
          <a:solidFill>
            <a:srgbClr val="045474"/>
          </a:solidFill>
          <a:ln w="936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9153600">
            <a:off x="1166400" y="4121280"/>
            <a:ext cx="211320" cy="450720"/>
          </a:xfrm>
          <a:prstGeom prst="downArrow">
            <a:avLst>
              <a:gd name="adj1" fmla="val 50000"/>
              <a:gd name="adj2" fmla="val 53322"/>
            </a:avLst>
          </a:prstGeom>
          <a:solidFill>
            <a:srgbClr val="045474"/>
          </a:solidFill>
          <a:ln w="936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12705600">
            <a:off x="1139400" y="2617560"/>
            <a:ext cx="211320" cy="450720"/>
          </a:xfrm>
          <a:prstGeom prst="downArrow">
            <a:avLst>
              <a:gd name="adj1" fmla="val 50000"/>
              <a:gd name="adj2" fmla="val 53322"/>
            </a:avLst>
          </a:prstGeom>
          <a:solidFill>
            <a:srgbClr val="045474"/>
          </a:solidFill>
          <a:ln w="936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77000" y="2673360"/>
            <a:ext cx="1984320" cy="434880"/>
          </a:xfrm>
          <a:prstGeom prst="rect">
            <a:avLst/>
          </a:prstGeom>
          <a:solidFill>
            <a:srgbClr val="b2b2b2"/>
          </a:solidFill>
          <a:ln w="3816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32160" y="1704960"/>
            <a:ext cx="0" cy="3757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44680" y="0"/>
            <a:ext cx="66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45474"/>
                </a:solidFill>
                <a:latin typeface="Arial"/>
              </a:rPr>
              <a:t>Outil de travail de la Mission Prospective Wallonie 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305000" y="1754280"/>
            <a:ext cx="4056120" cy="3706560"/>
          </a:xfrm>
          <a:prstGeom prst="ellipse">
            <a:avLst/>
          </a:prstGeom>
          <a:solidFill>
            <a:srgbClr val="04547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1670040" y="2573280"/>
            <a:ext cx="3330720" cy="207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19280" y="2548080"/>
            <a:ext cx="3394080" cy="2103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0"/>
            <a:ext cx="7969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44680" y="0"/>
            <a:ext cx="75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45474"/>
                </a:solidFill>
                <a:latin typeface="Arial"/>
              </a:rPr>
              <a:t>Tendance </a:t>
            </a:r>
            <a:r>
              <a:rPr b="1" i="1" lang="fr-BE" sz="2000" spc="-1" strike="noStrike">
                <a:solidFill>
                  <a:srgbClr val="045474"/>
                </a:solidFill>
                <a:latin typeface="Arial"/>
              </a:rPr>
              <a:t>Nouvelle gouvernance et nouveau contrat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66920" y="357120"/>
            <a:ext cx="737712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851040"/>
            <a:ext cx="2968560" cy="398880"/>
          </a:xfrm>
          <a:prstGeom prst="rect">
            <a:avLst/>
          </a:prstGeom>
          <a:solidFill>
            <a:srgbClr val="045474"/>
          </a:solidFill>
          <a:ln w="2844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Le changement glob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92360" y="851040"/>
            <a:ext cx="2967120" cy="398880"/>
          </a:xfrm>
          <a:prstGeom prst="rect">
            <a:avLst/>
          </a:prstGeom>
          <a:solidFill>
            <a:srgbClr val="045474"/>
          </a:solidFill>
          <a:ln w="2844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Le changement wal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2000" y="1595520"/>
            <a:ext cx="2981160" cy="916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Perte de confiance en l’efficacité de la gestion de l’État par le poli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3160" y="3122640"/>
            <a:ext cx="2981160" cy="916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La bonne gouvernance articule les trois sphères : État, sect. privé, soc. civ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71360" y="4672080"/>
            <a:ext cx="2981520" cy="916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Distinction démocratie re-présentative et délibér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 </a:t>
            </a: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pour légitimer l’é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492360" y="1616040"/>
            <a:ext cx="2981520" cy="916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Le Contrat d’avenir pour la Wallonie constitue le cadre de gouvernance wallon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92360" y="3156120"/>
            <a:ext cx="2981520" cy="916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Le CAWA a permis de conclure des partenariats avec les grands ac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92360" y="4672080"/>
            <a:ext cx="2981520" cy="916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Un processus qui promeut le concept nouveau d’intérêt région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83480" y="2622600"/>
            <a:ext cx="1984320" cy="398880"/>
          </a:xfrm>
          <a:prstGeom prst="rect">
            <a:avLst/>
          </a:prstGeom>
          <a:solidFill>
            <a:srgbClr val="b2b2b2"/>
          </a:solidFill>
          <a:ln w="3816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45474"/>
                </a:solidFill>
                <a:latin typeface="Arial"/>
              </a:rPr>
              <a:t>Par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16800" y="679320"/>
            <a:ext cx="2352600" cy="642600"/>
          </a:xfrm>
          <a:prstGeom prst="rect">
            <a:avLst/>
          </a:prstGeom>
          <a:solidFill>
            <a:srgbClr val="045474"/>
          </a:solidFill>
          <a:ln w="3816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Acteurs &amp; facteurs wall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4080" y="6004080"/>
            <a:ext cx="235260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Acteurs &amp; facteu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europé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97360" y="6207120"/>
            <a:ext cx="1984320" cy="398880"/>
          </a:xfrm>
          <a:prstGeom prst="rect">
            <a:avLst/>
          </a:prstGeom>
          <a:solidFill>
            <a:srgbClr val="b2b2b2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3333cc"/>
                </a:solidFill>
                <a:latin typeface="Arial"/>
              </a:rPr>
              <a:t>Learning Re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681280" y="6208560"/>
            <a:ext cx="1984320" cy="398880"/>
          </a:xfrm>
          <a:prstGeom prst="rect">
            <a:avLst/>
          </a:prstGeom>
          <a:solidFill>
            <a:srgbClr val="b2b2b2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3333cc"/>
                </a:solidFill>
                <a:latin typeface="Arial"/>
              </a:rPr>
              <a:t>Livre bla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Mission-Prosp-Wallonie21_logo-3" descr=""/>
          <p:cNvPicPr/>
          <p:nvPr/>
        </p:nvPicPr>
        <p:blipFill>
          <a:blip r:embed="rId1"/>
          <a:stretch/>
        </p:blipFill>
        <p:spPr>
          <a:xfrm>
            <a:off x="0" y="0"/>
            <a:ext cx="1406520" cy="685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157560" y="3621240"/>
            <a:ext cx="350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06600" y="5829480"/>
            <a:ext cx="685800" cy="376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88120" y="5805360"/>
            <a:ext cx="685800" cy="376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99320" y="1522440"/>
            <a:ext cx="1984320" cy="398880"/>
          </a:xfrm>
          <a:prstGeom prst="rect">
            <a:avLst/>
          </a:prstGeom>
          <a:solidFill>
            <a:srgbClr val="b2b2b2"/>
          </a:solidFill>
          <a:ln w="3816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45474"/>
                </a:solidFill>
                <a:latin typeface="Arial"/>
              </a:rPr>
              <a:t>CAW - CA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97520" y="2073240"/>
            <a:ext cx="1984680" cy="398880"/>
          </a:xfrm>
          <a:prstGeom prst="rect">
            <a:avLst/>
          </a:prstGeom>
          <a:solidFill>
            <a:srgbClr val="b2b2b2"/>
          </a:solidFill>
          <a:ln w="3816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45474"/>
                </a:solidFill>
                <a:latin typeface="Arial"/>
              </a:rPr>
              <a:t>G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97520" y="3200400"/>
            <a:ext cx="1984680" cy="398880"/>
          </a:xfrm>
          <a:prstGeom prst="rect">
            <a:avLst/>
          </a:prstGeom>
          <a:solidFill>
            <a:srgbClr val="b2b2b2"/>
          </a:solidFill>
          <a:ln w="3816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45474"/>
                </a:solidFill>
                <a:latin typeface="Arial"/>
              </a:rPr>
              <a:t>CESR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10480" y="3789360"/>
            <a:ext cx="1984320" cy="398880"/>
          </a:xfrm>
          <a:prstGeom prst="rect">
            <a:avLst/>
          </a:prstGeom>
          <a:solidFill>
            <a:srgbClr val="b2b2b2"/>
          </a:solidFill>
          <a:ln w="3816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45474"/>
                </a:solidFill>
                <a:latin typeface="Arial"/>
              </a:rPr>
              <a:t>CWE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784920" y="4941720"/>
            <a:ext cx="1984320" cy="398880"/>
          </a:xfrm>
          <a:prstGeom prst="rect">
            <a:avLst/>
          </a:prstGeom>
          <a:solidFill>
            <a:srgbClr val="b2b2b2"/>
          </a:solidFill>
          <a:ln w="3816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45474"/>
                </a:solidFill>
                <a:latin typeface="Arial"/>
              </a:rPr>
              <a:t>MRW-M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73760" y="5519880"/>
            <a:ext cx="1984320" cy="398880"/>
          </a:xfrm>
          <a:prstGeom prst="rect">
            <a:avLst/>
          </a:prstGeom>
          <a:solidFill>
            <a:srgbClr val="b2b2b2"/>
          </a:solidFill>
          <a:ln w="3816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45474"/>
                </a:solidFill>
                <a:latin typeface="Arial"/>
              </a:rPr>
              <a:t>CJ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13720" y="4354560"/>
            <a:ext cx="1984320" cy="398880"/>
          </a:xfrm>
          <a:prstGeom prst="rect">
            <a:avLst/>
          </a:prstGeom>
          <a:solidFill>
            <a:srgbClr val="b2b2b2"/>
          </a:solidFill>
          <a:ln w="3816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45474"/>
                </a:solidFill>
                <a:latin typeface="Arial"/>
              </a:rPr>
              <a:t>UVC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6159800">
            <a:off x="3242160" y="1229040"/>
            <a:ext cx="211320" cy="450720"/>
          </a:xfrm>
          <a:prstGeom prst="downArrow">
            <a:avLst>
              <a:gd name="adj1" fmla="val 50000"/>
              <a:gd name="adj2" fmla="val 53322"/>
            </a:avLst>
          </a:prstGeom>
          <a:solidFill>
            <a:srgbClr val="045474"/>
          </a:solidFill>
          <a:ln w="936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9708800">
            <a:off x="5262480" y="2643120"/>
            <a:ext cx="211320" cy="451080"/>
          </a:xfrm>
          <a:prstGeom prst="downArrow">
            <a:avLst>
              <a:gd name="adj1" fmla="val 50000"/>
              <a:gd name="adj2" fmla="val 53365"/>
            </a:avLst>
          </a:prstGeom>
          <a:solidFill>
            <a:srgbClr val="045474"/>
          </a:solidFill>
          <a:ln w="936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2015400">
            <a:off x="5248080" y="4158720"/>
            <a:ext cx="210960" cy="451080"/>
          </a:xfrm>
          <a:prstGeom prst="downArrow">
            <a:avLst>
              <a:gd name="adj1" fmla="val 50000"/>
              <a:gd name="adj2" fmla="val 53456"/>
            </a:avLst>
          </a:prstGeom>
          <a:solidFill>
            <a:srgbClr val="045474"/>
          </a:solidFill>
          <a:ln w="936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5359800">
            <a:off x="3229560" y="5495040"/>
            <a:ext cx="211320" cy="450720"/>
          </a:xfrm>
          <a:prstGeom prst="downArrow">
            <a:avLst>
              <a:gd name="adj1" fmla="val 50000"/>
              <a:gd name="adj2" fmla="val 53322"/>
            </a:avLst>
          </a:prstGeom>
          <a:solidFill>
            <a:srgbClr val="045474"/>
          </a:solidFill>
          <a:ln w="936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9153600">
            <a:off x="1166400" y="4121280"/>
            <a:ext cx="211320" cy="450720"/>
          </a:xfrm>
          <a:prstGeom prst="downArrow">
            <a:avLst>
              <a:gd name="adj1" fmla="val 50000"/>
              <a:gd name="adj2" fmla="val 53322"/>
            </a:avLst>
          </a:prstGeom>
          <a:solidFill>
            <a:srgbClr val="045474"/>
          </a:solidFill>
          <a:ln w="936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2705600">
            <a:off x="1139400" y="2617560"/>
            <a:ext cx="211320" cy="450720"/>
          </a:xfrm>
          <a:prstGeom prst="downArrow">
            <a:avLst>
              <a:gd name="adj1" fmla="val 50000"/>
              <a:gd name="adj2" fmla="val 53322"/>
            </a:avLst>
          </a:prstGeom>
          <a:solidFill>
            <a:srgbClr val="045474"/>
          </a:solidFill>
          <a:ln w="936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023200" y="1938240"/>
            <a:ext cx="62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4547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Décoder le concept de gouvernance 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de « bonne gouvernance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90640" y="1477800"/>
            <a:ext cx="4191120" cy="111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60240" y="3027240"/>
            <a:ext cx="728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45474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Voir dans quelle mesure la pro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territoriale peut répondre à l’enjeu d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« Nouvelle Gouvernance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40920" y="4479840"/>
            <a:ext cx="61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Conclusion : démocratie et prospectiv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9040" y="588960"/>
            <a:ext cx="424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45474"/>
                </a:solidFill>
                <a:latin typeface="Arial"/>
              </a:rPr>
              <a:t>Prospective et gouver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Plan de l’inter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405080" y="1938240"/>
            <a:ext cx="768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L’apport de la prospective des entrepr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wallonnes à la question des rap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entre la gouvernance et la pro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2390760" y="3227400"/>
            <a:ext cx="6207120" cy="14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 rot="20767800">
            <a:off x="0" y="2057400"/>
            <a:ext cx="7391520" cy="914400"/>
          </a:xfrm>
          <a:custGeom>
            <a:avLst/>
            <a:gdLst>
              <a:gd name="textAreaLeft" fmla="*/ 923760 w 7391520"/>
              <a:gd name="textAreaRight" fmla="*/ 6467760 w 73915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Entrepr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9090200">
            <a:off x="1967040" y="4147920"/>
            <a:ext cx="5686200" cy="914400"/>
          </a:xfrm>
          <a:custGeom>
            <a:avLst/>
            <a:gdLst>
              <a:gd name="textAreaLeft" fmla="*/ 710640 w 5686200"/>
              <a:gd name="textAreaRight" fmla="*/ 4975560 w 56862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cc00"/>
                </a:solidFill>
                <a:latin typeface="Arial"/>
              </a:rPr>
              <a:t>Politiques d’entrepr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81680" y="1981080"/>
            <a:ext cx="2133720" cy="60984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6699"/>
                </a:solidFill>
                <a:latin typeface="Arial"/>
              </a:rPr>
              <a:t>Prosp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41000" y="594216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6699"/>
                </a:solidFill>
                <a:latin typeface="Arial"/>
              </a:rPr>
              <a:t>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927200" y="6080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6699"/>
                </a:solidFill>
                <a:latin typeface="Arial"/>
              </a:rPr>
              <a:t>20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598040" y="990720"/>
            <a:ext cx="31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envir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facteurs de chan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compétitiv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5760" y="4343400"/>
            <a:ext cx="189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initi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coût/efficac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-6120" y="0"/>
            <a:ext cx="90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6699"/>
                </a:solidFill>
                <a:latin typeface="Arial"/>
              </a:rPr>
              <a:t>La vision long terme des politiques d’entreprises en Wallo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395280"/>
            <a:ext cx="89154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35440" y="4495680"/>
            <a:ext cx="322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enje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orientations straté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actions concrè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6105600"/>
            <a:ext cx="21146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898360" y="5514840"/>
            <a:ext cx="857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cc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641560" y="5514840"/>
            <a:ext cx="857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cc"/>
                </a:solidFill>
                <a:latin typeface="Arial"/>
              </a:rPr>
              <a:t>20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3962520"/>
            <a:ext cx="0" cy="160020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19920" y="3962520"/>
            <a:ext cx="0" cy="160020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25200">
            <a:off x="5203800" y="2742840"/>
            <a:ext cx="16254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3333cc"/>
                </a:solidFill>
                <a:latin typeface="Arial"/>
              </a:rPr>
              <a:t>VAL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3333cc"/>
                </a:solidFill>
                <a:latin typeface="Arial"/>
              </a:rPr>
              <a:t>DURABI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3333cc"/>
                </a:solidFill>
                <a:latin typeface="Arial"/>
              </a:rPr>
              <a:t>INCLUSIV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3333cc"/>
                </a:solidFill>
                <a:latin typeface="Arial"/>
              </a:rPr>
              <a:t>RECHER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25200">
            <a:off x="1982880" y="2666880"/>
            <a:ext cx="258912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3333cc"/>
                </a:solidFill>
                <a:latin typeface="Arial"/>
              </a:rPr>
              <a:t>IMMATERI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3333cc"/>
                </a:solidFill>
                <a:latin typeface="Arial"/>
              </a:rPr>
              <a:t>ACCOMPAG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3333cc"/>
                </a:solidFill>
                <a:latin typeface="Arial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3333cc"/>
                </a:solidFill>
                <a:latin typeface="Arial"/>
              </a:rPr>
              <a:t>RESE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21000">
            <a:off x="888840" y="4268880"/>
            <a:ext cx="7948800" cy="914400"/>
          </a:xfrm>
          <a:custGeom>
            <a:avLst/>
            <a:gdLst>
              <a:gd name="textAreaLeft" fmla="*/ 993600 w 7948800"/>
              <a:gd name="textAreaRight" fmla="*/ 6955200 w 79488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cc00"/>
                </a:solidFill>
                <a:latin typeface="Arial"/>
              </a:rPr>
              <a:t>Politiques d’entrepr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06600" y="1676520"/>
            <a:ext cx="179172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3333cc"/>
                </a:solidFill>
                <a:latin typeface="Arial"/>
              </a:rPr>
              <a:t>QUAT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3333cc"/>
                </a:solidFill>
                <a:latin typeface="Arial"/>
              </a:rPr>
              <a:t>ENJ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3333cc"/>
                </a:solidFill>
                <a:latin typeface="Arial"/>
              </a:rPr>
              <a:t>DETERMIN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668320" y="1676520"/>
            <a:ext cx="127332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3333cc"/>
                </a:solidFill>
                <a:latin typeface="Arial"/>
              </a:rPr>
              <a:t>QUAT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3333cc"/>
                </a:solidFill>
                <a:latin typeface="Arial"/>
              </a:rPr>
              <a:t>MOTE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3333cc"/>
                </a:solidFill>
                <a:latin typeface="Arial"/>
              </a:rPr>
              <a:t>A ACT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95680" y="2971800"/>
            <a:ext cx="533520" cy="333360"/>
          </a:xfrm>
          <a:custGeom>
            <a:avLst/>
            <a:gdLst>
              <a:gd name="textAreaLeft" fmla="*/ 66600 w 533520"/>
              <a:gd name="textAreaRight" fmla="*/ 466920 w 53352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95680" y="3352680"/>
            <a:ext cx="533520" cy="333360"/>
          </a:xfrm>
          <a:custGeom>
            <a:avLst/>
            <a:gdLst>
              <a:gd name="textAreaLeft" fmla="*/ 66600 w 533520"/>
              <a:gd name="textAreaRight" fmla="*/ 466920 w 53352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800600" y="1523880"/>
            <a:ext cx="0" cy="12193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193280" y="1066680"/>
            <a:ext cx="127332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3333cc"/>
                </a:solidFill>
                <a:latin typeface="Arial"/>
              </a:rPr>
              <a:t>D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3333cc"/>
                </a:solidFill>
                <a:latin typeface="Arial"/>
              </a:rPr>
              <a:t>PRIOR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0" y="0"/>
            <a:ext cx="44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336699"/>
                </a:solidFill>
                <a:latin typeface="Arial"/>
              </a:rPr>
              <a:t>Huit dimensions et deux priori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336699"/>
                </a:solidFill>
                <a:latin typeface="Arial"/>
              </a:rPr>
              <a:t>pour les politiques d’entreprises à 2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762120"/>
            <a:ext cx="441972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33920" y="5562720"/>
            <a:ext cx="1828800" cy="333360"/>
          </a:xfrm>
          <a:custGeom>
            <a:avLst/>
            <a:gdLst>
              <a:gd name="textAreaLeft" fmla="*/ 228600 w 1828800"/>
              <a:gd name="textAreaRight" fmla="*/ 1600200 w 182880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4X4logo10" descr=""/>
          <p:cNvPicPr/>
          <p:nvPr/>
        </p:nvPicPr>
        <p:blipFill>
          <a:blip r:embed="rId1"/>
          <a:stretch/>
        </p:blipFill>
        <p:spPr>
          <a:xfrm>
            <a:off x="0" y="6108840"/>
            <a:ext cx="211464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461520" y="1144440"/>
            <a:ext cx="819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045474"/>
                </a:solidFill>
                <a:latin typeface="Arial"/>
              </a:rPr>
              <a:t>Le but ultime de la prospectiv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045474"/>
                </a:solidFill>
                <a:latin typeface="Arial"/>
              </a:rPr>
              <a:t>c’est le développement durable dans un mo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045474"/>
                </a:solidFill>
                <a:latin typeface="Arial"/>
              </a:rPr>
              <a:t>qui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45474"/>
                </a:solidFill>
                <a:latin typeface="Arial"/>
              </a:rPr>
              <a:t>[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045474"/>
                </a:solidFill>
                <a:latin typeface="Arial"/>
              </a:rPr>
              <a:t>Ainsi, la finalité ultime de la prosp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045474"/>
                </a:solidFill>
                <a:latin typeface="Arial"/>
              </a:rPr>
              <a:t>stratégique apparaît clairement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045474"/>
                </a:solidFill>
                <a:latin typeface="Arial"/>
              </a:rPr>
              <a:t>c’est la durabilit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0"/>
            <a:ext cx="65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45474"/>
                </a:solidFill>
                <a:latin typeface="Arial"/>
              </a:rPr>
              <a:t>La prospective et le développement du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419040"/>
            <a:ext cx="671184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37560" y="5060880"/>
            <a:ext cx="5067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45474"/>
                </a:solidFill>
                <a:latin typeface="Arial"/>
              </a:rPr>
              <a:t>Christian STOFFAES, </a:t>
            </a:r>
            <a:r>
              <a:rPr b="1" i="1" lang="fr-BE" sz="1600" spc="-1" strike="noStrike">
                <a:solidFill>
                  <a:srgbClr val="045474"/>
                </a:solidFill>
                <a:latin typeface="Arial"/>
              </a:rPr>
              <a:t>Les logiciels de la pérennité</a:t>
            </a:r>
            <a:r>
              <a:rPr b="1" lang="fr-BE" sz="1600" spc="-1" strike="noStrike">
                <a:solidFill>
                  <a:srgbClr val="045474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45474"/>
                </a:solidFill>
                <a:latin typeface="Arial"/>
              </a:rPr>
              <a:t>dans Jacques LESOURNE et Christian STOFFAE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045474"/>
                </a:solidFill>
                <a:latin typeface="Arial"/>
              </a:rPr>
              <a:t>Prospective stratégique d’entreprise</a:t>
            </a:r>
            <a:r>
              <a:rPr b="1" lang="fr-BE" sz="1600" spc="-1" strike="noStrike">
                <a:solidFill>
                  <a:srgbClr val="045474"/>
                </a:solidFill>
                <a:latin typeface="Arial"/>
              </a:rPr>
              <a:t>, p. 25 &amp; 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45474"/>
                </a:solidFill>
                <a:latin typeface="Arial"/>
              </a:rPr>
              <a:t>Paris, Dunod, 200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60" y="0"/>
            <a:ext cx="70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45474"/>
                </a:solidFill>
                <a:latin typeface="Arial"/>
              </a:rPr>
              <a:t>Les apports de la prospective à la gouver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0" y="429840"/>
            <a:ext cx="7113600" cy="255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09680" y="689040"/>
            <a:ext cx="3958560" cy="5946120"/>
          </a:xfrm>
          <a:prstGeom prst="rect">
            <a:avLst/>
          </a:prstGeom>
          <a:noFill/>
          <a:ln w="2844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Qualités d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Nouvelle Gouver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associe 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parties pre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pédag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multi-nivea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(subsidiarité et partenaria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transvers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du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éthique et imputa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694040" y="689040"/>
            <a:ext cx="4094280" cy="5946120"/>
          </a:xfrm>
          <a:prstGeom prst="rect">
            <a:avLst/>
          </a:prstGeom>
          <a:noFill/>
          <a:ln w="2844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Apports de la prospec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territor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favorise l’intelli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 </a:t>
            </a: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coll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cognitive &amp; explic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identifie et comb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les échelles territo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systém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intègre la tempora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45474"/>
                </a:solidFill>
                <a:latin typeface="Arial"/>
              </a:rPr>
              <a:t>honnête et rigoure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849320" y="2314440"/>
            <a:ext cx="58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Conclusion : démocratie et pro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65160" y="2860560"/>
            <a:ext cx="579924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0"/>
            <a:ext cx="815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La démocratie est la condition nécessaire tant de la gouvernance que de la pro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0" y="825120"/>
            <a:ext cx="7680240" cy="2556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8040" y="1623960"/>
            <a:ext cx="844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La démocratie, c’est-à-dire la concertation collective en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les citoyens, le contrôle civique sur les instances du pouvoi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la responsabilité que doit assumer le corps social vis-à-vi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la «  chose publique », opère dans l’entrecrois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du passé, du présent et du fut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Jean C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hesneaux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Habiter le temp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,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744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L</a:t>
            </a:r>
            <a:r>
              <a:rPr b="1" lang="fr-FR" sz="2400" spc="-1" strike="noStrike">
                <a:solidFill>
                  <a:srgbClr val="045474"/>
                </a:solidFill>
                <a:latin typeface="Arial"/>
              </a:rPr>
              <a:t>’</a:t>
            </a: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approche trifonctionnelle de Thierry Gaud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00240" y="3710160"/>
            <a:ext cx="2133360" cy="1981080"/>
          </a:xfrm>
          <a:prstGeom prst="ellipse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Pô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interac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Arial"/>
              </a:rPr>
              <a:t>(délibér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272200" y="3668760"/>
            <a:ext cx="2133360" cy="19810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cc00"/>
                </a:solidFill>
                <a:latin typeface="Arial"/>
              </a:rPr>
              <a:t>Pô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cc00"/>
                </a:solidFill>
                <a:latin typeface="Arial"/>
              </a:rPr>
              <a:t>concept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cc00"/>
                </a:solidFill>
                <a:latin typeface="Arial"/>
              </a:rPr>
              <a:t>(les conce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cc00"/>
                </a:solidFill>
                <a:latin typeface="Arial"/>
              </a:rPr>
              <a:t>structura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52960" y="1187280"/>
            <a:ext cx="2133360" cy="1981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6699"/>
                </a:solidFill>
                <a:latin typeface="Arial"/>
              </a:rPr>
              <a:t>Pô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6699"/>
                </a:solidFill>
                <a:latin typeface="Arial"/>
              </a:rPr>
              <a:t>fact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336699"/>
                </a:solidFill>
                <a:latin typeface="Arial"/>
              </a:rPr>
              <a:t>(recueil 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336699"/>
                </a:solidFill>
                <a:latin typeface="Arial"/>
              </a:rPr>
              <a:t>donné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86240" y="2792520"/>
            <a:ext cx="762120" cy="838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581280" y="4730760"/>
            <a:ext cx="15242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727000" y="2754360"/>
            <a:ext cx="609480" cy="838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57320" y="626436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400" spc="-1" strike="noStrike">
                <a:solidFill>
                  <a:srgbClr val="000000"/>
                </a:solidFill>
                <a:latin typeface="Arial"/>
              </a:rPr>
              <a:t>Discours de la méthode créatrice</a:t>
            </a: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520" y="423720"/>
            <a:ext cx="682632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 flipV="1">
            <a:off x="0" y="4800240"/>
            <a:ext cx="0" cy="205740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9800" y="950760"/>
            <a:ext cx="83440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45474"/>
                </a:solidFill>
                <a:latin typeface="Arial"/>
                <a:ea typeface="Times New Roman"/>
              </a:rPr>
              <a:t>Philippe Desta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45474"/>
                </a:solidFill>
                <a:latin typeface="Arial"/>
                <a:ea typeface="Times New Roman"/>
              </a:rPr>
              <a:t>directeur de l’Institut Jules-Destr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destatte.ph@destree.org</a:t>
            </a:r>
            <a:r>
              <a:rPr b="0" i="1" lang="fr-BE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2"/>
              </a:rPr>
              <a:t>http://www.destree.org</a:t>
            </a:r>
            <a:r>
              <a:rPr b="0" lang="fr-BE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3"/>
              </a:rPr>
              <a:t>http://www.wallonie-en-ligne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Retour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Index Prospective</a:t>
            </a: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 du portail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omic Sans MS"/>
                <a:hlinkClick r:id="rId5"/>
              </a:rPr>
              <a:t>Wallonie-en-lig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864440" y="1938240"/>
            <a:ext cx="62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4547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Décoder le concept de gouvernance 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de « bonne gouvernance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003400" y="2816280"/>
            <a:ext cx="6207120" cy="14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40560" y="210960"/>
            <a:ext cx="8073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Ce que nous disent la rétrospective et l’analy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sur la gouver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454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la gouvernance selon le Club de Rome (199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454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la définition de Steven Rosell (199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454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la « bonne gouvernance » selon le PNUD (1992-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454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les trois paliers de la gouvernance selon le PNUD (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454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les sept (?) types de relations d’un système complexe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gouvernance (Commonwealth, 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454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la gouvernance selon la Banque mondiale (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454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le Livre blanc sur la gouvernance européenne (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454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le nouveau paradigme de la gouver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par Lester Salomon (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454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Renforcer l’interaction entre les trois paliers est l’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454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45474"/>
                </a:solidFill>
                <a:latin typeface="Arial"/>
              </a:rPr>
              <a:t>même de la gouvern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61880" y="1050480"/>
            <a:ext cx="6959520" cy="18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92280" y="1787400"/>
            <a:ext cx="80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045474"/>
                </a:solidFill>
                <a:latin typeface="Arial"/>
              </a:rPr>
              <a:t>Mécanisme de commande d’un système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045474"/>
                </a:solidFill>
                <a:latin typeface="Arial"/>
              </a:rPr>
              <a:t>et ses actions en vue de fournir de la sécurité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045474"/>
                </a:solidFill>
                <a:latin typeface="Arial"/>
              </a:rPr>
              <a:t>de la prospérité, de la cohérence, de l’ord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045474"/>
                </a:solidFill>
                <a:latin typeface="Arial"/>
              </a:rPr>
              <a:t>et de la continuité au systè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0" y="0"/>
            <a:ext cx="68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45474"/>
                </a:solidFill>
                <a:latin typeface="Arial"/>
              </a:rPr>
              <a:t>La gouvernance selon le Club de Rome </a:t>
            </a: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(199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19040"/>
            <a:ext cx="671184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75600" y="4314960"/>
            <a:ext cx="788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45474"/>
                </a:solidFill>
                <a:latin typeface="Arial"/>
              </a:rPr>
              <a:t>Alexander KING et Bertrand SCHNEIDER, </a:t>
            </a:r>
            <a:r>
              <a:rPr b="1" i="1" lang="fr-BE" sz="1600" spc="-1" strike="noStrike">
                <a:solidFill>
                  <a:srgbClr val="045474"/>
                </a:solidFill>
                <a:latin typeface="Arial"/>
              </a:rPr>
              <a:t>The First Global Revolution</a:t>
            </a:r>
            <a:r>
              <a:rPr b="1" lang="fr-BE" sz="1600" spc="-1" strike="noStrike">
                <a:solidFill>
                  <a:srgbClr val="045474"/>
                </a:solidFill>
                <a:latin typeface="Arial"/>
              </a:rPr>
              <a:t>, NY, 199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70880" y="1427040"/>
            <a:ext cx="8184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045474"/>
                </a:solidFill>
                <a:latin typeface="Arial"/>
              </a:rPr>
              <a:t>Le processus de gouvernance est le proces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045474"/>
                </a:solidFill>
                <a:latin typeface="Arial"/>
              </a:rPr>
              <a:t>par lequel une organisation ou une socié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045474"/>
                </a:solidFill>
                <a:latin typeface="Arial"/>
              </a:rPr>
              <a:t>se conduit elle-mê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045474"/>
                </a:solidFill>
                <a:latin typeface="Arial"/>
              </a:rPr>
              <a:t>Les dynamiques de communication et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045474"/>
                </a:solidFill>
                <a:latin typeface="Arial"/>
              </a:rPr>
              <a:t>contrôle sont centraux dans ce process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1440" y="0"/>
            <a:ext cx="83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45474"/>
                </a:solidFill>
                <a:latin typeface="Arial"/>
              </a:rPr>
              <a:t>La définition de la gouvernance par Steven Rosell </a:t>
            </a: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(199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19040"/>
            <a:ext cx="8315280" cy="126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6040" y="5153040"/>
            <a:ext cx="749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45474"/>
                </a:solidFill>
                <a:latin typeface="Arial"/>
              </a:rPr>
              <a:t>Steven A. ROSELL ea,  </a:t>
            </a:r>
            <a:r>
              <a:rPr b="1" i="1" lang="fr-BE" sz="1600" spc="-1" strike="noStrike">
                <a:solidFill>
                  <a:srgbClr val="045474"/>
                </a:solidFill>
                <a:latin typeface="Arial"/>
              </a:rPr>
              <a:t>Governing in an Information Society</a:t>
            </a:r>
            <a:r>
              <a:rPr b="1" lang="fr-BE" sz="1600" spc="-1" strike="noStrike">
                <a:solidFill>
                  <a:srgbClr val="045474"/>
                </a:solidFill>
                <a:latin typeface="Arial"/>
              </a:rPr>
              <a:t>, Montréal, 199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71080" y="1201680"/>
            <a:ext cx="858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045474"/>
                </a:solidFill>
                <a:latin typeface="Arial"/>
              </a:rPr>
              <a:t>L’exercice d’une autorité publique, économ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045474"/>
                </a:solidFill>
                <a:latin typeface="Arial"/>
              </a:rPr>
              <a:t>et administrative aux fins de gérer les aff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045474"/>
                </a:solidFill>
                <a:latin typeface="Arial"/>
              </a:rPr>
              <a:t>d’un pays. Elle repose sur des mécanism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045474"/>
                </a:solidFill>
                <a:latin typeface="Arial"/>
              </a:rPr>
              <a:t>des processus et des institutions qui permet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045474"/>
                </a:solidFill>
                <a:latin typeface="Arial"/>
              </a:rPr>
              <a:t>aux citoyens et aux groupes d’exprimer 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045474"/>
                </a:solidFill>
                <a:latin typeface="Arial"/>
              </a:rPr>
              <a:t>intérêts, de régler des litiges, et d’avoir des dro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045474"/>
                </a:solidFill>
                <a:latin typeface="Arial"/>
              </a:rPr>
              <a:t>et des oblig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40" y="0"/>
            <a:ext cx="74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La </a:t>
            </a:r>
            <a:r>
              <a:rPr b="1" i="1" lang="fr-BE" sz="2400" spc="-1" strike="noStrike">
                <a:solidFill>
                  <a:srgbClr val="045474"/>
                </a:solidFill>
                <a:latin typeface="Arial"/>
              </a:rPr>
              <a:t>bonne gouvernance</a:t>
            </a: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 selon le PNUD (1992-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19040"/>
            <a:ext cx="7413480" cy="126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5320" y="5153040"/>
            <a:ext cx="791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045474"/>
                </a:solidFill>
                <a:latin typeface="Arial"/>
              </a:rPr>
              <a:t>Rapport mondial sur le Développement humain</a:t>
            </a:r>
            <a:r>
              <a:rPr b="1" lang="fr-BE" sz="1600" spc="-1" strike="noStrike">
                <a:solidFill>
                  <a:srgbClr val="045474"/>
                </a:solidFill>
                <a:latin typeface="Arial"/>
              </a:rPr>
              <a:t> &amp; G. Shabbir CHEEMA, </a:t>
            </a:r>
            <a:r>
              <a:rPr b="1" i="1" lang="fr-BE" sz="1600" spc="-1" strike="noStrike">
                <a:solidFill>
                  <a:srgbClr val="045474"/>
                </a:solidFill>
                <a:latin typeface="Arial"/>
              </a:rPr>
              <a:t>Poli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045474"/>
                </a:solidFill>
                <a:latin typeface="Arial"/>
              </a:rPr>
              <a:t>et gouvernance du PNUD</a:t>
            </a:r>
            <a:r>
              <a:rPr b="1" lang="fr-BE" sz="1600" spc="-1" strike="noStrike">
                <a:solidFill>
                  <a:srgbClr val="045474"/>
                </a:solidFill>
                <a:latin typeface="Arial"/>
              </a:rPr>
              <a:t>, 1995-200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160880" y="1290600"/>
            <a:ext cx="3178080" cy="3116160"/>
          </a:xfrm>
          <a:prstGeom prst="ellipse">
            <a:avLst/>
          </a:prstGeom>
          <a:noFill/>
          <a:ln w="3816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97040" y="1282680"/>
            <a:ext cx="3309840" cy="311616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28960" y="2973240"/>
            <a:ext cx="3270240" cy="334188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14640" y="234468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cc0000"/>
                </a:solidFill>
                <a:latin typeface="Arial"/>
              </a:rPr>
              <a:t>L’É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48200" y="2013120"/>
            <a:ext cx="109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45474"/>
                </a:solidFill>
                <a:latin typeface="Arial"/>
              </a:rPr>
              <a:t>La sociétéciv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21040" y="464184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cc99"/>
                </a:solidFill>
                <a:latin typeface="Arial"/>
              </a:rPr>
              <a:t>Le sec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cc99"/>
                </a:solidFill>
                <a:latin typeface="Arial"/>
              </a:rPr>
              <a:t>pri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2600" y="4800240"/>
            <a:ext cx="0" cy="205740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IJD-logo2001" descr=""/>
          <p:cNvPicPr/>
          <p:nvPr/>
        </p:nvPicPr>
        <p:blipFill>
          <a:blip r:embed="rId1"/>
          <a:stretch/>
        </p:blipFill>
        <p:spPr>
          <a:xfrm>
            <a:off x="231840" y="6006960"/>
            <a:ext cx="1617480" cy="712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33200" y="0"/>
            <a:ext cx="841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Les trois </a:t>
            </a:r>
            <a:r>
              <a:rPr b="1" i="1" lang="fr-BE" sz="2400" spc="-1" strike="noStrike">
                <a:solidFill>
                  <a:srgbClr val="045474"/>
                </a:solidFill>
                <a:latin typeface="Arial"/>
              </a:rPr>
              <a:t>paliers</a:t>
            </a: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 de la gouvernance selon le PNUD (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0" y="406080"/>
            <a:ext cx="8547120" cy="126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1494000" y="1415880"/>
            <a:ext cx="1095120" cy="6192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7360" y="684360"/>
            <a:ext cx="1218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législat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judici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exécut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+ </a:t>
            </a:r>
            <a:r>
              <a:rPr b="0" i="1" lang="fr-BE" sz="1800" spc="-1" strike="noStrike">
                <a:solidFill>
                  <a:srgbClr val="045474"/>
                </a:solidFill>
                <a:latin typeface="Arial"/>
              </a:rPr>
              <a:t>ident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045474"/>
                </a:solidFill>
                <a:latin typeface="Arial"/>
              </a:rPr>
              <a:t>et 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045474"/>
                </a:solidFill>
                <a:latin typeface="Arial"/>
              </a:rPr>
              <a:t>nat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5613480" y="4711320"/>
            <a:ext cx="1069920" cy="63180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87440" y="4599000"/>
            <a:ext cx="2055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sec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marchand 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entrepris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déterritorialis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mais élé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de développ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des terri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144840" y="1208160"/>
            <a:ext cx="947880" cy="736560"/>
          </a:xfrm>
          <a:prstGeom prst="line">
            <a:avLst/>
          </a:prstGeom>
          <a:ln w="3816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13040" y="514440"/>
            <a:ext cx="1826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les citoy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organis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ou n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(ON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organis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professionnel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45474"/>
                </a:solidFill>
                <a:latin typeface="Arial"/>
              </a:rPr>
              <a:t>et associ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4040" y="4497480"/>
            <a:ext cx="2250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045474"/>
                </a:solidFill>
                <a:latin typeface="Arial"/>
              </a:rPr>
              <a:t>Gover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045474"/>
                </a:solidFill>
                <a:latin typeface="Arial"/>
              </a:rPr>
              <a:t>for Sustai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045474"/>
                </a:solidFill>
                <a:latin typeface="Arial"/>
              </a:rPr>
              <a:t>Human Development</a:t>
            </a:r>
            <a:r>
              <a:rPr b="1" lang="fr-BE" sz="1600" spc="-1" strike="noStrike">
                <a:solidFill>
                  <a:srgbClr val="045474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45474"/>
                </a:solidFill>
                <a:latin typeface="Arial"/>
              </a:rPr>
              <a:t>New York, 1997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1T14:15:12Z</dcterms:created>
  <dc:creator>Philippe Destatte</dc:creator>
  <dc:description/>
  <dc:language>en-US</dc:language>
  <cp:lastModifiedBy>Marie-Anne Delahaut</cp:lastModifiedBy>
  <dcterms:modified xsi:type="dcterms:W3CDTF">2003-09-22T11:02:18Z</dcterms:modified>
  <cp:revision>436</cp:revision>
  <dc:subject/>
  <dc:title>Pôle Prospective.ppt</dc:title>
</cp:coreProperties>
</file>