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AA1-1140-4051-830B-F47E585C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B2F-3D8A-4F28-A7A3-A6F303F1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13B-05CE-441D-BA3C-36A47600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7C0-783F-42B3-9680-AE2DB4EF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4BD-BA12-4568-B87F-CF7D3F35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738-E293-409B-A404-B4146EF0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934-E3DB-436A-8E30-8E49C3BE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F89-BF3C-4D9B-9DE6-FFE2736F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33B-416F-4462-8DF2-F76FBE3E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523-1B08-4984-A920-23A2B65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928-4EBF-454F-A94A-3EADC000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ACC-B783-4999-B384-1C109842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4966-1614-4C4C-B248-44D2A0885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260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51560" y="5956200"/>
            <a:ext cx="161784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4600" y="890640"/>
            <a:ext cx="83041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  <a:ea typeface="Times New Roman"/>
              </a:rPr>
              <a:t>Internet Society Belgium - Wall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45474"/>
                </a:solidFill>
                <a:latin typeface="Arial"/>
                <a:ea typeface="Times New Roman"/>
              </a:rPr>
              <a:t>Active European Chapter since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7320" y="2097000"/>
            <a:ext cx="7078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  <a:ea typeface="Times New Roman"/>
              </a:rPr>
              <a:t>by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 Marie-Anne Dela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  <a:ea typeface="Times New Roman"/>
              </a:rPr>
              <a:t>Head of Information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45474"/>
                </a:solidFill>
                <a:latin typeface="Arial"/>
                <a:ea typeface="Times New Roman"/>
              </a:rPr>
              <a:t>The Destree Institute (Wallonia – Belg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Conference Inet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Building an open and trusted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Barcelona, May 10-14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827360"/>
            <a:ext cx="6858000" cy="14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760" y="5896080"/>
            <a:ext cx="161748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29480" y="5700600"/>
            <a:ext cx="2228760" cy="99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78160" y="5370480"/>
            <a:ext cx="258768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55720" y="6413400"/>
            <a:ext cx="383256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04360" y="0"/>
            <a:ext cx="61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45474"/>
                </a:solidFill>
                <a:latin typeface="Arial"/>
              </a:rPr>
              <a:t>Internet Society Belgium - Wall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6880" y="932040"/>
            <a:ext cx="7409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1996 : The Destree Institute at Inet Mont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1998 : Kick off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1999 : By-laws ISOC Belgium - Wall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2000 : ECC Presi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Education, cultures &amp;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2001 : Information Society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2002 : e-Government &amp; Administrative 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Simp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2003 : .com, .eu, .be : Changes in the ai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2004 :  Internet and Fami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2005 : Foresight of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79360" y="534600"/>
            <a:ext cx="8332920" cy="12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9840" y="758880"/>
            <a:ext cx="486000" cy="4849920"/>
          </a:xfrm>
          <a:prstGeom prst="downArrow">
            <a:avLst>
              <a:gd name="adj1" fmla="val 50000"/>
              <a:gd name="adj2" fmla="val 249481"/>
            </a:avLst>
          </a:prstGeom>
          <a:solidFill>
            <a:srgbClr val="045474"/>
          </a:solidFill>
          <a:ln w="9360">
            <a:solidFill>
              <a:srgbClr val="045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2920" y="5688000"/>
            <a:ext cx="2228760" cy="993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80280" y="5699160"/>
            <a:ext cx="2571480" cy="982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62520" y="5634000"/>
            <a:ext cx="119844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12600" y="479376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06360" y="5730840"/>
            <a:ext cx="1943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4040" y="2457360"/>
            <a:ext cx="3294000" cy="1468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12600" y="479376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1295280"/>
            <a:ext cx="5790960" cy="4876920"/>
          </a:xfrm>
          <a:prstGeom prst="ellipse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295280"/>
            <a:ext cx="5790960" cy="4876920"/>
          </a:xfrm>
          <a:prstGeom prst="ellipse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0520" y="2021040"/>
            <a:ext cx="2590920" cy="12189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FUN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07040" y="3637080"/>
            <a:ext cx="2743200" cy="12189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EC DG InfoS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1996920"/>
            <a:ext cx="2819520" cy="1219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3624120"/>
            <a:ext cx="2590920" cy="1219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Public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19680" y="5203800"/>
            <a:ext cx="2819520" cy="1219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ICANN - G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41520" y="5203800"/>
            <a:ext cx="2819520" cy="1219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The Des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2160" y="0"/>
            <a:ext cx="53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</a:rPr>
              <a:t>Internet Society Belgium – Wall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0" y="434880"/>
            <a:ext cx="5276880" cy="129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7880" y="432576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cc"/>
                </a:solidFill>
                <a:latin typeface="Arial"/>
              </a:rPr>
              <a:t>directly link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24040" y="601560"/>
            <a:ext cx="2590920" cy="1219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ISO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3360" y="601560"/>
            <a:ext cx="2590920" cy="1219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P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V="1">
            <a:off x="0" y="4800240"/>
            <a:ext cx="0" cy="20574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9960" y="314280"/>
            <a:ext cx="83440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Marie-Anne Dela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Head of Information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The Destree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C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45474"/>
                </a:solidFill>
                <a:latin typeface="Arial"/>
                <a:ea typeface="Times New Roman"/>
              </a:rPr>
              <a:t>ISOC Belgium - Wall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delahaut.marie-anne@destre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delahaut.marie-anne@wallonie-iso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http://www.destre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http://www.wallonie-en-ligne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http://wallonie-iso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15080" y="5700600"/>
            <a:ext cx="2228760" cy="993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1440" y="5776920"/>
            <a:ext cx="18813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15:12Z</dcterms:created>
  <dc:creator>Marie-Anne Delahaut</dc:creator>
  <dc:description>Rev. : PhD</dc:description>
  <dc:language>en-US</dc:language>
  <cp:lastModifiedBy>Marie-Anne Delahaut</cp:lastModifiedBy>
  <dcterms:modified xsi:type="dcterms:W3CDTF">2004-05-10T23:14:48Z</dcterms:modified>
  <cp:revision>487</cp:revision>
  <dc:subject>Active European Chapter since 1998</dc:subject>
  <dc:title>ISOC Belgium - Wallonia</dc:title>
</cp:coreProperties>
</file>